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762-8FDC-4843-BD2B-3CEBAD3E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292-73F1-4CDC-990D-61FB9A6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A92-6175-4DC5-9A18-AD62382A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F8E-9407-4ABC-AB61-00E7FBAC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DAA-50D9-4CE2-B9D9-9D1617AE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3727-FABA-4332-9AFE-EE960600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89E-42B4-4563-AD7F-DE528D8B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6D8D-B918-4C8A-AD05-78B75103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075D-6D77-46D0-BFA0-1D643A7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2963-8FA0-4AF0-9DC0-BA8BC47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FC1B-78C0-4914-A588-F6D327C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042-73BE-4C30-BC7D-E5051A3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184-247E-402A-A231-2E6EA25E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15F-EBD4-4497-B8C0-5BFA9A6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415F-3402-4249-94E4-3819BEF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77F-C70B-48A2-ACF8-047F2E8D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97B1-089F-499D-9AFB-51BDAB79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F1BE-5ABF-4DBB-9701-78B9FCA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3EBD-F1B9-4506-AE15-3EFD4A5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AC12-E9B2-4F83-AB5A-74C9BF8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92DA-9B9E-429E-B190-A263FFB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46EE-6F16-46C6-8CAB-AB9231A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62D-B547-4096-B27E-4236E30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A1BB-5D2A-41AC-99C7-8CCFFE8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A7A7-35A6-4A3B-8911-B60A5BF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FD8C-FB1D-4067-87EE-75220D2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A8A7-22B8-4624-9EA7-8AF2D407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0F89-9066-404E-85C7-C3DCFC3E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3E65-97FD-480D-8933-DE7CE870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E078-8C0E-43EC-B46B-CF140077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584-CAE8-46D1-9923-D936C4E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E5F-2960-4880-A5CD-16B15411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11B-A50E-4128-A2D5-1A593058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F03-3FF2-4D2F-9F76-600537F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B7C-B6F1-46FE-9E85-13D315F9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C39-2CF8-4DD5-B600-62CFEC4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EEE-A2D6-4B56-827C-581A4CBB3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E78-C553-47D9-A9E8-1057A5365487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FE7-798C-4CFC-8AF7-3FBADF4BD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655640" y="333360"/>
          <a:ext cx="5756400" cy="1096920"/>
        </p:xfrm>
        <a:graphic>
          <a:graphicData uri="http://schemas.openxmlformats.org/drawingml/2006/table">
            <a:tbl>
              <a:tblPr/>
              <a:tblGrid>
                <a:gridCol w="5756400"/>
              </a:tblGrid>
              <a:tr h="1176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   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oukromá Obchodní Akademie, spol.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vatováclavská 1404, 438 01 Žat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el.: 415 726 003, fax: 415 726 003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                            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-mail: soa@soazatec.cz, www.soazatec.c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"/>
          <p:cNvSpPr/>
          <p:nvPr/>
        </p:nvSpPr>
        <p:spPr>
          <a:xfrm>
            <a:off x="1655640" y="3322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465520" y="387792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CE-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84440" y="1773360"/>
          <a:ext cx="5767200" cy="4378320"/>
        </p:xfrm>
        <a:graphic>
          <a:graphicData uri="http://schemas.openxmlformats.org/drawingml/2006/table">
            <a:tbl>
              <a:tblPr/>
              <a:tblGrid>
                <a:gridCol w="2884320"/>
                <a:gridCol w="2882880"/>
              </a:tblGrid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DIGITÁLNÍ UČEBNÍ MATERIÁ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ÉMATICKÁ OBLAST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Á GRAMA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ředmětu nebo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nglický jazy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méno, příjmení, titul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cela Tichotová, Mg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ázev prá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loveso být v přítomn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upeň a typ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ředoškolské vzděl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racovní skupina – tří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.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čekávaný výst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likace pravidel pro použití slovesa být v přítomném č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programové vybav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werpo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á studijní lit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. Murphy: Essential Grammar in Use, Cambridge 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oužité nebo doporučené WWW strá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1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Picture 45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1676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dff"/>
                </a:solidFill>
                <a:latin typeface="Comic Sans MS"/>
              </a:rPr>
              <a:t>Krátké dpověd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you (we, they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es, he (she, it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I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you (we, they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o, he (she, it)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´m eleven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e mi jedenáct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re you married? Yes, I am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Jsi vdaná. Ano, jsem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aren´t our friends. </a:t>
            </a:r>
            <a:r>
              <a:rPr b="0" lang="cs-CZ" sz="1000" spc="-1" strike="noStrike">
                <a:solidFill>
                  <a:srgbClr val="000000"/>
                </a:solidFill>
                <a:latin typeface="Comic Sans MS"/>
              </a:rPr>
              <a:t>(Nejsou naši přátelé.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030a0"/>
                </a:solidFill>
                <a:latin typeface="Comic Sans MS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dpověz na otázky týkajících se probraného uči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é tři tvary slovesa být používáme v přítomném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 jakých osob používáme tva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xistují zkrácené tvary u otáze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olik tvarů má sloveso být v přítomném čas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mocí čeho se vytváří zápor u slovesa bý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030a0"/>
                </a:solidFill>
                <a:latin typeface="Comic Sans MS"/>
              </a:rPr>
              <a:t>Sloveso být v přítomném č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finitiv od slovesa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bý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to b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loveso být má v přítomném čase tři tvar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Níže je uvedeno u kterých osob se tvary používaj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kladné a záporné větě se dají použít plné tvary nebo tvary zkrácené (ty se používají víc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por se dělá pomocí záporky no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tázka se tvoří tak, že přehodíme podmět a tvar slovesa bý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U krátkých odpovědí se používají plné tvary u kladných odpovědí a tvary zkrácené u záporných odpověd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dff"/>
                </a:solidFill>
                <a:latin typeface="Comic Sans MS"/>
              </a:rPr>
              <a:t>Kladná vě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I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já jsem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you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r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ty js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he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on 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she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ona 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= it</a:t>
            </a:r>
            <a:r>
              <a:rPr b="0" lang="cs-CZ" sz="2400" spc="-1" strike="noStrike">
                <a:solidFill>
                  <a:srgbClr val="ff0000"/>
                </a:solidFill>
                <a:latin typeface="Comic Sans MS"/>
              </a:rPr>
              <a:t>´s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to 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we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my js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you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y j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= they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´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ni jso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Záp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m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I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´m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já nejs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yo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ty nej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s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ona není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he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on není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– it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n´t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to není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we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my nejs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you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vy nej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they </a:t>
            </a: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n´t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– oni nejso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dff"/>
                </a:solidFill>
                <a:latin typeface="Comic Sans MS"/>
              </a:rPr>
              <a:t>Otázk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I ? – jsem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you ? – jsi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he ? – je 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she ? – je on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it ? – je t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we ? – jsm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you ? – jst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they ? – jsou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5:01:06Z</dcterms:created>
  <dc:creator>Stanislav Tichota</dc:creator>
  <dc:description/>
  <dc:language>en-US</dc:language>
  <cp:lastModifiedBy>Macík</cp:lastModifiedBy>
  <dcterms:modified xsi:type="dcterms:W3CDTF">2012-08-15T14:46:15Z</dcterms:modified>
  <cp:revision>12</cp:revision>
  <dc:subject/>
  <dc:title>Sloveso být v přítomném čase</dc:title>
</cp:coreProperties>
</file>