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F156-6282-4CD8-94AF-5E83535A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2ACF-F6A7-47B1-A060-519441A4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9B4-1A1F-4C3F-8F4F-28D43A23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5BE-FE3A-4969-9B49-598BF944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0635-FF27-4F0E-A1D1-082C72EF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FDD1-99DF-4C09-B04E-DEB03A49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A3F4-BE16-45EC-99F3-2BB6ADE0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9732-C03A-470B-A261-345FD714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03EB-BE3A-4399-BDCE-F4869C09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1179-F5F7-48A8-A623-A0EAAB0F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8A65-DED6-4190-BF2D-12F1438F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7278-EE81-4C16-B858-32AA21B1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2815-810E-4740-B896-6780F670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9DCE-98E0-41E8-9C32-BA9A2927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C745-BD9C-4CB2-BC3A-CBE399CF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74C2-7D63-48A6-AD49-AADEBC3B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918C-475D-41D4-9D4D-B92550BD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90720-551F-4804-98CC-1DA3475B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E0BDE-497C-4D64-9205-3055D3A9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DED5F-1AED-425B-9F59-5E94DE14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F839D-BB81-47D0-B073-112C5202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ED978-C92D-42F4-A7E5-FB397B90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A569-4ACA-4A45-8757-250380CD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41BD4-5E03-4701-997D-2C18AEAC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24A52-EF06-4BC3-924C-2F6114DB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5F3F1-CEA1-4EEC-9347-D20DEDB2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1192E-F82E-4407-AB4E-7AF25372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D6500-5781-419E-85B6-E5A58DB9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A1878-D07B-4CA4-BBC1-F385AAA6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8F83C-D261-4E35-9279-B7227830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93C2-DBE9-4A9A-871A-6085DE20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4C4-8E4B-479A-A373-C77BA3EB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1265-8E76-466A-B96C-2FA84AB2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BAF1-ADD6-44C1-AB4E-D1AA3C01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E9BC-E242-4AAB-A54F-494F3A4D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1BC-7D94-4E34-A0CC-62590FD3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27FF-2950-4899-9D00-DD7CD7B1E7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FCD1-5066-4B81-B5F7-E6573E701646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0D27-0915-4C6A-8453-1950BE3422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655640" y="333360"/>
          <a:ext cx="5756400" cy="1096920"/>
        </p:xfrm>
        <a:graphic>
          <a:graphicData uri="http://schemas.openxmlformats.org/drawingml/2006/table">
            <a:tbl>
              <a:tblPr/>
              <a:tblGrid>
                <a:gridCol w="5756400"/>
              </a:tblGrid>
              <a:tr h="1176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     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oukromá Obchodní Akademie, spol.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vatováclavská 1404, 438 01 Ža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el.: 415 726 003, fax: 415 726 00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-mail: soa@soazatec.cz, www.soazatec.c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3"/>
          <p:cNvSpPr/>
          <p:nvPr/>
        </p:nvSpPr>
        <p:spPr>
          <a:xfrm>
            <a:off x="1655640" y="3322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465520" y="3877920"/>
            <a:ext cx="152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CE-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84440" y="1773360"/>
          <a:ext cx="5767200" cy="4378320"/>
        </p:xfrm>
        <a:graphic>
          <a:graphicData uri="http://schemas.openxmlformats.org/drawingml/2006/table">
            <a:tbl>
              <a:tblPr/>
              <a:tblGrid>
                <a:gridCol w="2884320"/>
                <a:gridCol w="2882880"/>
              </a:tblGrid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DIGITÁLNÍ UČEBNÍ MATERIÁ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ÉMATICKÁ OBLAST –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Á GRAMA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ředmětu nebo čin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ý jazy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Jméno, příjmení, titul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rcela Tichotová, M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rá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loveso mít v přítomném ča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upeň a typ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ředoškolské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racovní skupina – tří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1.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čekávaný výst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likace pravidel pro použití slovesa mít  v přítomném ča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programové vybav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wer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á studijní litera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. Murphy: Essential Grammar in Use, Cambridge 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nebo doporučené WWW strán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45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16765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av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we got ? – máme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av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you got ? – máte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av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they got ? – mají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dff"/>
                </a:solidFill>
                <a:latin typeface="Comic Sans MS"/>
              </a:rPr>
              <a:t>Krátké odpovědi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Yes, I (you, we, they)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hav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Yes, he (she,it)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has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o, I (you, we, they)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haven´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o, he (she,it)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hasn´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he has got two sisters. </a:t>
            </a: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Má dvě sestry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 haven´t got any paper. </a:t>
            </a: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Nemám žádný papír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ave they got a car? Yes, they have. </a:t>
            </a: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Mají auto. Ano, mají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30a0"/>
                </a:solidFill>
                <a:latin typeface="Comic Sans MS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dpověz na otázky týkajících se probraného učiv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 jaké angličtině se používá tvar HAVE GOT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é tvary má sloveso mít v přítomném čas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 jakých osob používáme tvar HA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é jsou zkrácené tvary u záporné vět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0a0"/>
                </a:solidFill>
                <a:latin typeface="Comic Sans MS"/>
              </a:rPr>
              <a:t>Sloveso mít v přítomném ča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britské angličtině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e používá infinitiv slovesa mít a to sice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ave go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americké angličtině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je infinitiv pouze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av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loveso mít má v přítomném čase dva tvary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ave got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as got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(používá se pouze u 3.os.č.j.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 kladné a záporné větě se dají použít plné a zkrácené tvary (ty jsou častější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ápor vytváříme pomocí záporky no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tázka se vytváří přehozením podmětu a tvaru slovesa mí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U krátkých odpovědí používáme plné tvary  u kladných odpovědí a zkrácené tvary u záporných odpovědí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dff"/>
                </a:solidFill>
                <a:latin typeface="Comic Sans MS"/>
              </a:rPr>
              <a:t>Kladná vět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have go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= I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´v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go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já m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have go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= you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´v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go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ty máš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has go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= he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´s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go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on má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has got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she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´s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go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ona má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t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has go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= it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´s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go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to má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ave go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= we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´v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go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my má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ave go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= you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´v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go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vy má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ave go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= they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´v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go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oni maj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dff"/>
                </a:solidFill>
                <a:latin typeface="Comic Sans MS"/>
              </a:rPr>
              <a:t>Záp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have not go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= I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haven´t go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já nemá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haven´t go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ty nemá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has not go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= he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hasn´t go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on nem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hasn´t go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ona nem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t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hasn´t go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to nem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aven´t go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my nemá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aven´t go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vy nemá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aven´t go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oni nemaj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03dff"/>
                </a:solidFill>
                <a:latin typeface="Comic Sans MS"/>
              </a:rPr>
              <a:t>Otázk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av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I got ? – mám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av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you got ? – máš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as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he got ? – má on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as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she got ? – má ona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Has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it got ? – má to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7:56:56Z</dcterms:created>
  <dc:creator>Stanislav Tichota</dc:creator>
  <dc:description/>
  <dc:language>en-US</dc:language>
  <cp:lastModifiedBy>Macík</cp:lastModifiedBy>
  <dcterms:modified xsi:type="dcterms:W3CDTF">2012-08-15T14:56:17Z</dcterms:modified>
  <cp:revision>14</cp:revision>
  <dc:subject/>
  <dc:title>Sloveso mít v přítomném čase</dc:title>
</cp:coreProperties>
</file>