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BE90-9193-4D10-A9B6-1506C6D9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BACF-637C-41AE-AFE3-18C0748C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8295-2882-4E08-A77D-C36E16B25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5A3F-5BEB-4434-93F4-B543896A7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7A66-D01B-47DA-B45D-B9819358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6A50-F31A-4FA0-8027-5F3A4A58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F414-5D77-402F-851D-ACCAC429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FEDF-5F39-4E37-AC3C-E74258AD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68E8-5FFE-4708-B837-9C813022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0D5E-19BE-4352-86FD-D4639633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D7FD-8B50-4D46-A053-C5040F9F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8810-2F67-4672-9EF2-7476FA0A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33C8-D8D1-48D5-B28A-B49D4478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09C3-62A7-40C9-AC65-17026E57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9FAC-84A2-4CE9-96D9-228D507F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753B-E14B-4344-A994-2A1FB4140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4DEF-25A0-49D9-97DF-C3524C8D7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FB44A-4A89-4C9E-9D16-EAE037D14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EE116-63FD-4068-B1E0-CC08F115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7147E-594E-4814-AB84-78902C4B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3D979-EA2A-4D60-B6B0-D6BC90B6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48553-A65C-4B47-A182-0056C1B0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2932-9300-438E-9956-326D64A1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37541-2DB6-40F9-B032-7FB22FF6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11DDF-139D-4056-9546-A0225D93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FD66E-CA01-444A-8BF3-C327F722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8859A-5947-4D89-8B7A-E237BB5F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99C75-77D1-4CAA-B04C-EFC85290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AC942-0063-4853-8D8C-A7CD498B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30496-C76D-44BF-A8BF-DFB591102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45A8-1F38-4FE0-BBE1-A0F2B04D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E7A0-9F45-45C2-9DA0-63979E8E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328A-AA6C-4021-8571-3145BDE6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A20B-C4E2-4B0D-AFD3-F749F668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65FC-3C45-47B8-8606-893A1665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1F1D-5BD7-4720-9618-D10E73F8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712B-E48B-4BEF-BAF7-E59FA877B8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72FE-8E3F-4F64-9997-4798775B1F0C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C494-204A-4595-99FF-3AA208061C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oa@soazatec.cz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655640" y="333360"/>
          <a:ext cx="5756400" cy="1127160"/>
        </p:xfrm>
        <a:graphic>
          <a:graphicData uri="http://schemas.openxmlformats.org/drawingml/2006/table">
            <a:tbl>
              <a:tblPr/>
              <a:tblGrid>
                <a:gridCol w="5756400"/>
              </a:tblGrid>
              <a:tr h="12787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oukromá Obchodní Akademie, spol. s.r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vatováclavská 1404, 438 01 Žat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el.: 415 726 003, fax: 415 726 003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        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e-mail: </a:t>
                      </a:r>
                      <a:r>
                        <a:rPr b="0" lang="pt-BR" sz="1400" spc="-1" strike="noStrike" u="sng">
                          <a:solidFill>
                            <a:srgbClr val="0000ff"/>
                          </a:solidFill>
                          <a:uFillTx/>
                          <a:latin typeface="Comic Sans MS"/>
                          <a:ea typeface="Lucida Sans Unicode"/>
                          <a:hlinkClick r:id="rId1"/>
                        </a:rPr>
                        <a:t>soa@soazatec.cz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, www.soazatec.c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Rectangle 3"/>
          <p:cNvSpPr/>
          <p:nvPr/>
        </p:nvSpPr>
        <p:spPr>
          <a:xfrm>
            <a:off x="1655640" y="3322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5465520" y="3877920"/>
            <a:ext cx="152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CE-Roman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84440" y="1844640"/>
          <a:ext cx="5767200" cy="4378320"/>
        </p:xfrm>
        <a:graphic>
          <a:graphicData uri="http://schemas.openxmlformats.org/drawingml/2006/table">
            <a:tbl>
              <a:tblPr/>
              <a:tblGrid>
                <a:gridCol w="2884320"/>
                <a:gridCol w="2882880"/>
              </a:tblGrid>
              <a:tr h="38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DIGITÁLNÍ UČEBNÍ MATERIÁ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ÉMATICKÁ OBLAST –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NGLICKÁ GRAMAT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ázev předmětu nebo činnos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nglický jazy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Jméno, příjmení, titul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Marcela Tichotová, Mg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ázev prá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Osobní a přivlastňovací zájme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upeň a typ vzděl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ředoškolské vzděl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racovní skupina – tří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1. 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Očekávaný výstu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plikace pravidel pro použití osobních a přivlastňovacích zájm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é programové vybav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werpoi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á studijní literat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R. Murphy: Esential Grammar in Use, Cambridge 2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é nebo doporučené WWW stránk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" name="Picture 46" descr=""/>
          <p:cNvPicPr/>
          <p:nvPr/>
        </p:nvPicPr>
        <p:blipFill>
          <a:blip r:embed="rId2"/>
          <a:stretch/>
        </p:blipFill>
        <p:spPr>
          <a:xfrm>
            <a:off x="1763640" y="676440"/>
            <a:ext cx="167652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33ff"/>
                </a:solidFill>
                <a:latin typeface="Comic Sans MS"/>
              </a:rPr>
              <a:t>Osobní zájmena</a:t>
            </a:r>
            <a:br>
              <a:rPr sz="4400"/>
            </a:br>
            <a:r>
              <a:rPr b="0" lang="cs-CZ" sz="4400" spc="-1" strike="noStrike">
                <a:solidFill>
                  <a:srgbClr val="9933ff"/>
                </a:solidFill>
                <a:latin typeface="Comic Sans MS"/>
              </a:rPr>
              <a:t>(Personal pronoun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sobní zájmena se v angličtině píší s malým písmenem, kromě zájmena já, které je vždy psáno s velkým písmene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e 2.os. č.j. a ve 2 os.č.mn. Používáme stejné zájmeno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you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proto se v anglickém jazyce nerozlišuje vykání a tykání, jako např. v němčině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já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w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- m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you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ty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you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- v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h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on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they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- on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sh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-  o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it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to, o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eter and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like animals. </a:t>
            </a:r>
            <a:r>
              <a:rPr b="0" lang="cs-CZ" sz="1000" spc="-1" strike="noStrike">
                <a:solidFill>
                  <a:srgbClr val="000000"/>
                </a:solidFill>
                <a:latin typeface="Comic Sans MS"/>
              </a:rPr>
              <a:t>(Petr a já máme rádi zvířata.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You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can take it if you want it. </a:t>
            </a:r>
            <a:r>
              <a:rPr b="0" lang="cs-CZ" sz="1000" spc="-1" strike="noStrike">
                <a:solidFill>
                  <a:srgbClr val="000000"/>
                </a:solidFill>
                <a:latin typeface="Comic Sans MS"/>
              </a:rPr>
              <a:t>(Můžeš si to vzít jestli chceš.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Sh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is my best friend. </a:t>
            </a:r>
            <a:r>
              <a:rPr b="0" lang="cs-CZ" sz="1000" spc="-1" strike="noStrike">
                <a:solidFill>
                  <a:srgbClr val="000000"/>
                </a:solidFill>
                <a:latin typeface="Comic Sans MS"/>
              </a:rPr>
              <a:t>(Ona je moje nejlepší kamarádka.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33ff"/>
                </a:solidFill>
                <a:latin typeface="Comic Sans MS"/>
              </a:rPr>
              <a:t>Přivlastňovací zájmena</a:t>
            </a:r>
            <a:br>
              <a:rPr sz="4400"/>
            </a:br>
            <a:r>
              <a:rPr b="0" lang="cs-CZ" sz="4400" spc="-1" strike="noStrike">
                <a:solidFill>
                  <a:srgbClr val="9933ff"/>
                </a:solidFill>
                <a:latin typeface="Comic Sans MS"/>
              </a:rPr>
              <a:t>(Possessive adjectiv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U přivlastňovacích zájmen se opět setkáváme s tím, že zájmeno pro 2.os. č.j a 2 os.č.mn. je stejné, a to tedy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you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 neživé věci a zvířata používáme zájmeno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it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avšak pokud jde o domácí mazlíčka, můžeme používat i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h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nebo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sh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my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můj, moje, m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your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tvůj, tvoje, tv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his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jeh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her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jej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its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jeho, její u zvířat či neživých věc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our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náš, naš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your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váš, vaš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their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- jeji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Her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mother is a very good cook. </a:t>
            </a:r>
            <a:r>
              <a:rPr b="0" lang="cs-CZ" sz="1000" spc="-1" strike="noStrike">
                <a:solidFill>
                  <a:srgbClr val="000000"/>
                </a:solidFill>
                <a:latin typeface="Comic Sans MS"/>
              </a:rPr>
              <a:t>(Její maminka je velmi dobrá kuchařka.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´ve got a cat.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His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name is Felix. </a:t>
            </a:r>
            <a:r>
              <a:rPr b="0" lang="cs-CZ" sz="1000" spc="-1" strike="noStrike">
                <a:solidFill>
                  <a:srgbClr val="000000"/>
                </a:solidFill>
                <a:latin typeface="Comic Sans MS"/>
              </a:rPr>
              <a:t>(Mám kocoura. Jeho jméno je Felix.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Their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house is very nice and big. </a:t>
            </a:r>
            <a:r>
              <a:rPr b="0" lang="cs-CZ" sz="1000" spc="-1" strike="noStrike">
                <a:solidFill>
                  <a:srgbClr val="000000"/>
                </a:solidFill>
                <a:latin typeface="Comic Sans MS"/>
              </a:rPr>
              <a:t>(Jejich dům je pěkný a velký.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33ff"/>
                </a:solidFill>
                <a:latin typeface="Comic Sans MS"/>
              </a:rPr>
              <a:t>Revi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dpověz na otázky týkajících se probraného učiv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 se nazývají v anglickém jazyce osobní zájmena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o znamená Possessive adjective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 kterých dvou osob jsou stejné tvary osobních a přivlastňovacích zájmen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8:59:35Z</dcterms:created>
  <dc:creator>Stanislav Tichota</dc:creator>
  <dc:description/>
  <dc:language>en-US</dc:language>
  <cp:lastModifiedBy>Macík</cp:lastModifiedBy>
  <dcterms:modified xsi:type="dcterms:W3CDTF">2012-08-15T14:23:42Z</dcterms:modified>
  <cp:revision>13</cp:revision>
  <dc:subject/>
  <dc:title>Osobní zájmena (Personal pronouns)</dc:title>
</cp:coreProperties>
</file>