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44A-BB48-4592-BB50-4B444E8D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DD1-39AD-40BF-A04B-E63A4EB9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20A-CD13-4592-BC22-38A96E3E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3AC-DE41-4644-A5C7-761144A3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4884-4D36-4F2F-8339-DC8A8EAA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D842-08A2-4618-AFBB-CBF54D39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D2D9-2001-4B54-928B-90040ABE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5AC-0F10-434C-9B54-4B2CF2D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C7A9-854D-4F80-92A3-946DD18C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E975-B0A2-4BEB-A9CF-08ABF76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F742-A136-44AF-B6A6-781193D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BA5-415D-431A-88D4-19041690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61DE-E5F2-4209-A566-69E17F3D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181D-0DCC-477C-AFD7-57F5292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8AF5-3A1D-4A05-B488-34FEC4F8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1D9D-2362-4F9A-8174-615CB524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626B-3E2E-40FB-BD67-C2D4FDBD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4E5F-179F-4297-BED1-2B9A6C11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806C-941A-4532-AC30-FA8AFFF5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2AEC-FDB7-4207-BB34-B4BDFC4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98E3-28BB-48EA-8B36-8DA1239E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7D6B-17D6-4FF9-9CBF-C5D19DB4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53F-9B1A-4992-8738-DF8E6A73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971A-8FF6-43D1-AC76-982E56DD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FC93-0EFD-4E04-9999-C93B3F0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DC0F-2F99-4AEE-B088-931F3AB8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4CF4-C5F4-4E8A-AB6E-378D5C6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FB09-73FE-41E0-86C7-946FAE91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91D4-40B9-4DAB-9DB3-A7902367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F99A-6776-4A99-B1CA-0162B658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344-C616-4799-B188-7A8CBEE0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58A-8C26-4B7D-BC5B-2760D1E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AD7-A82F-4B30-91AD-F3D6FC3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399-EAB8-4551-9FCA-21A827EB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863-7193-482D-BD5E-D91021A8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EE9-4FA1-4B51-B51F-98C436D1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8063-4398-4931-83C1-BDF67E3627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DDF-A9A1-4F54-B3F3-0F9EBEBAC961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A06B-DAAF-41D1-AE07-B2820F987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29408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nožné čís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ítí množného čís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Množné číslo</a:t>
            </a:r>
            <a:br>
              <a:rPr sz="4400"/>
            </a:b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(Plural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většiny podst. jmen tvoříme přidáním koncovk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–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apř. dog + s = dog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lower + s = flower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ir + s = chair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dff"/>
                </a:solidFill>
                <a:latin typeface="Comic Sans MS"/>
              </a:rPr>
              <a:t>Pozor na změny v pravopis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končí podst.jméno n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-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-sh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-ch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-x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-o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přidáváme koncovk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–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us – b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ush – bus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urch – chur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ox – box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tato - potato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2. Pokud končí podst.jméno na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-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změkčíme na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–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aby – bab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arty – pa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!!!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le pokud je před y samohláska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–a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-e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o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tom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nezměkčuj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ay – d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nkey – monke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oy - bo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3. Pokud končí podst.jméno n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–f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-f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změníme n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–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nife – kn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ife- w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leaf - lea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dff"/>
                </a:solidFill>
                <a:latin typeface="Comic Sans MS"/>
              </a:rPr>
              <a:t>Nepravidelné množné čís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idáváme –s, tato podst.jména mají své vlastní tv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an – 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woman – wo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ild – child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erson - peo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ot – fe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ooth – tee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ouse – m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heep – she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ish - fi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dff"/>
                </a:solidFill>
                <a:latin typeface="Comic Sans MS"/>
              </a:rPr>
              <a:t>Podstatná jména, která jsou vždy v množném čís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ciss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rous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ea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yja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ig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u koncovku přidáváme k podstatným jménů, abychom vytvořili množné čísl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dy změkčujeme –y na –ies u podstatných jm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á z nepravidelných podstatných jmen v množném čís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menuj některá podstatná jména, která jsou vždy v množném čís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9:34:44Z</dcterms:created>
  <dc:creator>Stanislav Tichota</dc:creator>
  <dc:description/>
  <dc:language>en-US</dc:language>
  <cp:lastModifiedBy>Macík</cp:lastModifiedBy>
  <dcterms:modified xsi:type="dcterms:W3CDTF">2012-08-13T17:07:48Z</dcterms:modified>
  <cp:revision>12</cp:revision>
  <dc:subject/>
  <dc:title>Množné číslo (Plural)</dc:title>
</cp:coreProperties>
</file>