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6C34-B033-46F1-82D6-70A521FF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942-9668-424D-B4A9-C0433579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EF1-C510-4167-A221-DFA4BEB7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A629-02E0-4920-B7D7-F8FDC929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D93F-0921-4C9F-BB22-FA12E8C3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97BD-CB28-4EC4-B53D-F67FB644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C95E-8016-40E6-9BC9-49AA166E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DAE8-3A08-4F78-B9DD-F215FFAD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D2CD-2932-4745-A333-DFD5AB5A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7D5C-2E58-4A47-BC69-2CCC81E3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D6FE-6BC0-4F49-A611-AAA41D69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8CA-ED8E-4E90-91F5-D2D073E7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154F-965E-49A5-8A0B-395A6256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A461-A6A8-424F-9DAE-90CF50BA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1713-6EB1-409C-9FC9-AE66B6CB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8A62-276D-4899-96A2-1806230A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B98C-CF95-42D8-B6BA-8CAF6E99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99A3F-ADCE-4283-A26B-D73CDCEC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D5897-4412-4DD9-9BC7-8A91A86E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FCD0C-5636-493D-9CE2-4D873514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B9B4B-5EFD-4014-B12E-A8ED579E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71593-86A9-45F5-9AC9-CCA0A119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E33D-B7B8-443A-874E-2FBCAE41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CDFE6-281A-4861-AC3A-8923BC02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C233A-7D88-4C8A-9EA7-294A4F93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2DE38-09D9-4A94-AB95-27B885D9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EDDB8-5582-4B95-84CB-CB2EE1B9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23BBA-F72D-4F05-8F2D-A54C1BE3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71CF7-32ED-43CE-9082-16C6D9DA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A4F46-9B5D-4AED-AB47-8D674D60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939E-C0EF-43BF-BD6D-28B57435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1830-3ABC-45AA-9AEC-B0F13978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89F1-B131-4B00-AFDD-21F1B9AF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D21F-CA8D-4C52-BECC-B8EE49C4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B379-A58C-444D-A6EE-AB6A5928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707-0399-44C2-B4FD-557E3C4C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24BB-18D1-4047-9C86-169DEDFA1A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8413-8928-47ED-9FB0-1426C6694E5D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EAF0-F969-48D1-8BA6-E0822A4A8D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655640" y="333360"/>
          <a:ext cx="5756400" cy="1096920"/>
        </p:xfrm>
        <a:graphic>
          <a:graphicData uri="http://schemas.openxmlformats.org/drawingml/2006/table">
            <a:tbl>
              <a:tblPr/>
              <a:tblGrid>
                <a:gridCol w="5756400"/>
              </a:tblGrid>
              <a:tr h="1176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      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oukromá Obchodní Akademie, spol.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vatováclavská 1404, 438 01 Ža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el.: 415 726 003, fax: 415 726 00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-mail: soa@soazatec.cz, www.soazatec.c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3"/>
          <p:cNvSpPr/>
          <p:nvPr/>
        </p:nvSpPr>
        <p:spPr>
          <a:xfrm>
            <a:off x="1655640" y="3322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465520" y="387792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CE-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84440" y="1844640"/>
          <a:ext cx="5767200" cy="4378320"/>
        </p:xfrm>
        <a:graphic>
          <a:graphicData uri="http://schemas.openxmlformats.org/drawingml/2006/table">
            <a:tbl>
              <a:tblPr/>
              <a:tblGrid>
                <a:gridCol w="2884320"/>
                <a:gridCol w="2882880"/>
              </a:tblGrid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IGITÁLNÍ UČEBNÍ MATERIÁ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ÉMATICKÁ OBLAST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Á GRAMA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ředmětu nebo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ý jazy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méno, příjmení, titul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cela Tichotová, M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řítomný čas prost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upeň a typ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ředoškolské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racovní skupina – tří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. 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čekávaný výst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likace pravidel pro použití přítomného času prosté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program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w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á studijní liter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. Murphy: Essential Grammar in Use, Cambridge 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nebo doporučené WWW strá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45" descr=""/>
          <p:cNvPicPr/>
          <p:nvPr/>
        </p:nvPicPr>
        <p:blipFill>
          <a:blip r:embed="rId1"/>
          <a:stretch/>
        </p:blipFill>
        <p:spPr>
          <a:xfrm>
            <a:off x="1808280" y="603360"/>
            <a:ext cx="16761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03dff"/>
                </a:solidFill>
                <a:latin typeface="Comic Sans MS"/>
              </a:rPr>
              <a:t>Slova, která se vyskytují v přítomném čase prosté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šechna frekventní příslov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never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- nik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rarely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- zřídkak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seldom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zřídkak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sometimes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obč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often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- čas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usually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- obvyk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always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vždyc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all the tim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pořá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onc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jednou  (once a week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twic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dvakrát (twice a da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three times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třikrát (three times a yea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ten times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desetkrát (ten times a minut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every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každý, každou (every Saturda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66"/>
                </a:solidFill>
                <a:latin typeface="Comic Sans MS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dpověz na otázky týkajících se probraného učiv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 nazýváme přítomný čas prostý v anglickém jazyc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 kterých osob přidáváme koncovku –s nebo –es ke slovesu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é pomocného sloveso využíváme ke tvorbě otázek a záporu v přítomném čase prostém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menuj, některé ze slov, které se vyskují v přítomném čase prosté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menuj některé situace, ve kterých lze přítomný čas prostý použí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Přítomný čas prostý</a:t>
            </a:r>
            <a:br>
              <a:rPr sz="4400"/>
            </a:b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(Present simple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pisuje děj, který se neustále opaku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užívá se hlavně pro popis denní rutiny, zvyků, návyků, toho co máme či nemáme rád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U přírodních dějů, které se neustále opakuj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 jízdních řádech, rozvrzí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Jak se tvoří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03dff"/>
                </a:solidFill>
                <a:latin typeface="Comic Sans MS"/>
              </a:rPr>
              <a:t>Kladná vě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Podmět + sloveso + ostatní větné člen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                get up       at six.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Vstávám v šest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We            like           tomatoes.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Máme rádi rajčata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!!!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 u 3.os.č.j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 (he, she, it) přidáváme u slovesa koncovku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–s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nebo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–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he          plays the piano  on Mon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Ona hraje v pondělí na piano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e            watches TV      a lo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On hodně kouká na televizi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03dff"/>
                </a:solidFill>
                <a:latin typeface="Comic Sans MS"/>
              </a:rPr>
              <a:t>Záporná vě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pomocí pomocného slovesa do a záporky n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Podmět + don´t + sloves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hey         don´t    smoke.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Oni nekouří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               don´t   play tennis. </a:t>
            </a: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Nehraji tenis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!!!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u 3.os.č.j.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(he, she, it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Podmět + doesn´t + slov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t   doesn´t  rain much in this count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V této zemi moc neprší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he   doesn´t    read  book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Ona nečte knihy.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03dff"/>
                </a:solidFill>
                <a:latin typeface="Comic Sans MS"/>
              </a:rPr>
              <a:t>Otáz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mocí pomocného slovesa 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Do + podmět + sloves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o    you          a ride           bik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Jezdíš na kole?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o    they         speak        English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Mluví anglicky?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200"/>
                </a:solidFill>
                <a:latin typeface="Comic Sans MS"/>
              </a:rPr>
              <a:t>!!!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u 3.os.č.j.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(he, she, i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Does + podmět + sloveso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oes    he            drink         be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Pije pivo?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oes    the bus     go             at seve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omic Sans MS"/>
              </a:rPr>
              <a:t>(Jede autobus v sedm?)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03dff"/>
                </a:solidFill>
                <a:latin typeface="Comic Sans MS"/>
              </a:rPr>
              <a:t>Krátké odpověd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Yes, I (you, we, they)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do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Yes, he (she,it)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does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No, I (you, we, they)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don´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No, he (she, it)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doesn´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9:49:11Z</dcterms:created>
  <dc:creator>Stanislav Tichota</dc:creator>
  <dc:description/>
  <dc:language>en-US</dc:language>
  <cp:lastModifiedBy>Macík</cp:lastModifiedBy>
  <dcterms:modified xsi:type="dcterms:W3CDTF">2012-08-13T17:12:07Z</dcterms:modified>
  <cp:revision>16</cp:revision>
  <dc:subject/>
  <dc:title>Přítomný čas prostý (Present simple)</dc:title>
</cp:coreProperties>
</file>