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354-6485-4D66-897E-F644821F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C3C-F0EB-46EC-98B8-4D7B16EB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0D1-835E-4D33-8B27-E5B82381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114-3E62-449B-AD7C-3E7E5AE7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3439-E5FD-4474-99BA-0F8E5C52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B6FB-7FF9-4B2F-BB52-3ABE0758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14D2-35DC-4662-8B00-BBB1056C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9F7E-45D2-4132-9E1E-7CE734CA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D920-0235-4C14-8D0C-B5BD8CFF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91E2-6D88-4195-BFA6-6A173B66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068B-22EE-4149-9EE0-DE16FAE9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50E-5674-46E0-A35A-9B2D6EF5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8068-E779-47EF-8243-F016428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61EF-C76C-463D-88A4-75A5962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7458-F291-4717-AC47-0C90E7CE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0246-2022-4686-8753-304F5597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5748-4CE9-4949-839E-FF339385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3719-8C00-43B3-9EEF-FA78305C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1688-F70C-496C-AED6-6A2489C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7009-4ACE-4420-B96A-78F516CF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0E0F-DDDE-47CF-9F13-660F83C9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667B-EF44-4833-87DD-170DDD1E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B19-9955-4893-8E28-56B274A5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31ADD-08A2-4EE8-85B2-5C132CB9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4BA7-49C5-493A-BD27-EF13279F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7F5D-9F55-40E6-BAA4-E6C954C6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B8AF-FCB3-47B4-AC84-DB658B81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9814-1A29-4791-B0B7-95418E7D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5E7A-314A-43B2-9122-7FFEB973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7A83-B2BA-415B-9B93-4E95EAAF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F0A-10CF-4786-988A-C95BE119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538-0DBE-4DA1-895C-8F3FE49A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B80-E54D-448E-9E0A-604F8B11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56F-CA15-44C3-A3CA-5B22007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42B-E54D-46FF-8374-F060E6D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977-81FD-44E7-A6BB-169629A5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0CE3-BAAA-4719-B69D-D0A5F94CB1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960-FA20-4D27-AE08-F81DEB4D54AA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CF5F-5CFA-4A2D-9333-A6AD73B5E7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Vazba THERE IS/THERE 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vazby THERE IS/THERE 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Vazba There is,There 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íváme ji tehdy, pokud chceme v angličtině říci, že někde někdo či něco 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re is používáme v jednotném čísle  a There are v množném čís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Klad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here is /there are + podst.jm. + poloha předmětu či oso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re is a tree in the gard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omic Sans MS"/>
              </a:rPr>
              <a:t>(Na zahradě je strom.)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re are children in the classroo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omic Sans MS"/>
              </a:rPr>
              <a:t>(Ve třídě jsou děti.)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Záporná vě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here isn´t/there aren´t + podst.jm. 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poloha předmětu či oso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re isn´t milk in the frid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V lednici není mléko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here aren´t leaves on tre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a stromech nejsou listy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Otáz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 there /are there + podst.jm. + poloha předmětu či oso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s there a bus station near your ho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 blízko tvého domu zastávka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re there mistakes in my homewor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sou v mém úkolu chyby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Krátké odpověd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here i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here a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here is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here are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ato vazba existuje i v minulém čase.Kdy chceme říci, že někde někdo nebo něco by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vary pro minulos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sou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here was/There were, There wasn´t/There weren´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také pro budoucnost, kdy chceme říci, že někde něco nebo někdo b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vary pro budoucnos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sou pro obě dvě čísla stejné, a to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here will be, There won´t b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č používáme vazbu there is, there a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dy použijeme THERE A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vypadá struktura věty při použití této vazb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u vazbu používáme pro minulý čas v kladné větě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u vazbu používáme pro budoucí čas v záporné větě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6:15:55Z</dcterms:created>
  <dc:creator>Stanislav Tichota</dc:creator>
  <dc:description/>
  <dc:language>en-US</dc:language>
  <cp:lastModifiedBy>Macík</cp:lastModifiedBy>
  <dcterms:modified xsi:type="dcterms:W3CDTF">2012-08-13T17:15:51Z</dcterms:modified>
  <cp:revision>13</cp:revision>
  <dc:subject/>
  <dc:title>Vazba There is,There are</dc:title>
</cp:coreProperties>
</file>