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9BD-BC72-49F3-98C1-EBB9D87A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C1E-CF61-496B-A740-99F130E5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C19-5799-4ACD-924E-B1A51FD9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D6B2-E7D0-459B-95E0-AECB933A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8DA7-6571-4F79-887C-50075D96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3ABC-59B8-40F5-B497-BA7A9DE6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16BA-10CB-4A91-A4B3-08C46EE8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431B-C8FB-4BBA-AD53-6CC53134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D3A8-0A82-4568-8CCE-EFC424D3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1746-16E8-459D-9FFD-2E4681D1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D9E0-7FCA-4C94-8726-9E734124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D29-6D40-4B66-B850-B5B519D6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6A6D-9FCD-4E71-91D5-4592C736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B918-443A-440E-B183-705A6559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409D-09D2-450A-AC93-5F91F6E3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24F5-CA2E-4914-A685-DE2760FA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5629-1DF0-433B-8092-313C66D5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7A68-0035-47E4-B109-8A88155C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1420-E340-4C2B-9E6D-D9DAD096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CBD49-B2D3-423F-9673-3E840B8F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FE251-6A0F-44C8-998D-5B76E614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DDCC-43B1-48D7-AE0F-B956FA5C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AE8-B243-4FEE-AF79-87349CF6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61A5D-3871-4E9A-A553-F893DFA6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3B428-7B7B-4653-997E-A994B521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1603A-CE53-4F29-B1DE-1ECA40A6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BA2C0-FC29-4856-AEC3-E670CAC7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C096A-AD2A-46F1-B87A-35413541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C77E7-50FA-469D-93D0-A7758CB1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51C5-3DF2-4A3F-AE77-26785084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EC5-24C9-44CB-96A0-944A74B4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CDF-EB8A-4D9A-95B6-E346EA53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D70-2910-4FB3-A119-97C2A737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E08-68DD-40AC-85A3-A9F8D22E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D83-B437-49D9-9866-EE7CCF57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F11-5F49-4F2C-A5CC-75336064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34BE-F298-4720-8088-C8C1F10C2B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63E7-6EBD-40B4-9B79-D1069C912B69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B26F-46FB-43D4-9034-1DBDBB6A11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azatec.cz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174600"/>
          <a:ext cx="5756400" cy="130968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176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</a:t>
                      </a:r>
                      <a:r>
                        <a:rPr b="0" lang="cs-CZ" sz="1400" spc="-1" strike="noStrike" u="sng">
                          <a:solidFill>
                            <a:srgbClr val="0000ff"/>
                          </a:solidFill>
                          <a:uFillTx/>
                          <a:latin typeface="Comic Sans MS"/>
                          <a:ea typeface="Lucida Sans Unicode"/>
                          <a:hlinkClick r:id="rId1"/>
                        </a:rPr>
                        <a:t>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835280" y="1916280"/>
          <a:ext cx="5767200" cy="47131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711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ředložky poloh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.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  předložek poloh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7" descr=""/>
          <p:cNvPicPr/>
          <p:nvPr/>
        </p:nvPicPr>
        <p:blipFill>
          <a:blip r:embed="rId2"/>
          <a:stretch/>
        </p:blipFill>
        <p:spPr>
          <a:xfrm>
            <a:off x="1687680" y="636480"/>
            <a:ext cx="16761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off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up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naho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dow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dol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over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př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trough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skr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round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okolo, ko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ff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 se probraného učiv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jmenuj některé předložky poloh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jmenuj některá spojení , které se pojí s předložkou A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jmenuj některé z předložek pohyb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Předložky polohy</a:t>
            </a:r>
            <a:br>
              <a:rPr sz="4400"/>
            </a:b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(Prepositions of place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next to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ved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besid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ved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by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vedle, 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between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– mez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in front of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př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behind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z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opposite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– napro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p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below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p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bov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n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IN (v, ve, do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in a 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in a s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in a car/a tax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in the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n a gar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n a t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in the city cen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n Fr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n a b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n a hospit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n the s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n the wor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in a newspaper/a 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n a photograph/a pi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n the middle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AT (v, ve, na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at the bus stop/the station/the airp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at the do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at the traffic lights (na křižovatc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at a des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at the top (nahoř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at the en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at the bottom (do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t h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at 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t school/university/colle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t my sister´s h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t a concert/a party/a footbal match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ON (na, v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a ploše, např. on a floor, on a shelf, on a plate, on a balcony, on a ceiling, on a wall, on a door…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n a horse/a bicycle/a motorbike/a bus/a train/a plane/a shi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n the ground floor/the first floor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n the way (na cestě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ff"/>
                </a:solidFill>
                <a:latin typeface="Comic Sans MS"/>
              </a:rPr>
              <a:t>Předložky pohybu</a:t>
            </a:r>
            <a:br>
              <a:rPr sz="4400"/>
            </a:br>
            <a:r>
              <a:rPr b="1" lang="cs-CZ" sz="4400" spc="-1" strike="noStrike">
                <a:solidFill>
                  <a:srgbClr val="cc66ff"/>
                </a:solidFill>
                <a:latin typeface="Comic Sans MS"/>
              </a:rPr>
              <a:t>(Prepositions of movement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to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from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into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d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out of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long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p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cross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př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pas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- ko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19:01:04Z</dcterms:created>
  <dc:creator>Stanislav Tichota</dc:creator>
  <dc:description/>
  <dc:language>en-US</dc:language>
  <cp:lastModifiedBy>Macík</cp:lastModifiedBy>
  <dcterms:modified xsi:type="dcterms:W3CDTF">2012-08-13T17:11:42Z</dcterms:modified>
  <cp:revision>10</cp:revision>
  <dc:subject/>
  <dc:title>Předložky polohy</dc:title>
</cp:coreProperties>
</file>