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CE9-6F24-44E7-B63D-F7E18A49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384-C8DF-49A2-9555-160AA9E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7CB-F9C7-42A5-9293-D0A91649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0B9-EA37-43D7-90E8-D1D5DE06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A13-9B88-41E0-B8A2-35C17DAD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5C2A-1F80-44C6-8220-3EDCB70E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3A4-8BF2-49F9-B64B-D052D41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CE75-16B9-4143-B1F1-AC93D8BA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59BF-BF51-46A0-B85F-1E883BB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F71-A845-4E2B-A033-47C9BE54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9D71-75F6-4B3E-B37C-B6784AD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99C-DF9A-4AD8-9543-5DAD307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162E-4229-4D5B-97BB-94AA725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2A43-8CF2-43D0-AB57-F4735D3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CAB-67C5-45E9-B3C4-E0156B0D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3314-0668-46D7-890B-FFDDC5C6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E0B-8F3A-40A5-9CCC-8DDBDF91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CACD-0248-4461-BC68-682AB288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230A-EC3A-4B19-B276-B32B80F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6033-2CB0-4687-9C1D-A3558D7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FE8A-DDC5-4353-AFD4-6D3B0ACA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7615-9C31-4DB9-B4F3-EEAB5524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3BD-3928-458F-90AB-C65EB961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7860-F7CF-4AEF-A7EE-28BDF9C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9B0C-E886-4453-8B78-CF89CBD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0D12-E69D-4AFD-9DB5-CB75C43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9029-5F82-4218-8DD8-CA0F862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05CE-DCDD-4442-A44B-8F9AE00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E04C-FEB4-458A-BD10-BCF2F126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BA7E-DBBE-4200-8AC5-44AA7D23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C86-E0E6-4612-BB81-B055185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21E-AC4B-4DF4-9076-9F4E11A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9CC-2CFB-4DD2-8221-BC1B6458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47C-BCB5-4F8F-995E-D075BFF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FCB-9A96-4BAB-899B-A2E5DAD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3B1-9EBB-4A11-BB42-B447737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C3C-3448-4EB0-8BE6-667E4AE92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493-6F58-4DDD-8E2A-ACA82B1B80E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D27-C17E-41F3-8E46-A7A08B78A7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eurčitá zájm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neurčitých záj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Neurčitá zájmena SOME a AN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nějaký, nějaká, nějaké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užívá 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b200"/>
                </a:solidFill>
                <a:uFillTx/>
                <a:latin typeface="Comic Sans MS"/>
              </a:rPr>
              <a:t>1. v kladné vět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know some famous peop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Znám nějaké slavné lid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has got some new jea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omic Sans MS"/>
              </a:rPr>
              <a:t>(Má nějaké nové džíny.)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b200"/>
                </a:solidFill>
                <a:uFillTx/>
                <a:latin typeface="Comic Sans MS"/>
              </a:rPr>
              <a:t>2. ve zdvořilostních otázkác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většinou jde o nabídku nebo žádos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ould you like some coff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Dal by sis nějakou kávu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an I have some milk, plea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ohl bych dostat nějaké mléko prosím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mic Sans MS"/>
              </a:rPr>
              <a:t>AN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(nějaký, nějaká, nějaké, žádný, žádná žádné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užívá 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b200"/>
                </a:solidFill>
                <a:uFillTx/>
                <a:latin typeface="Comic Sans MS"/>
              </a:rPr>
              <a:t>1. v záporné vět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haven´t got any mon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Nemám žádné peníze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re isn´t any juice in the frid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 lednici není žádný džus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b200"/>
                </a:solidFill>
                <a:uFillTx/>
                <a:latin typeface="Comic Sans MS"/>
              </a:rPr>
              <a:t>2. v zjišťovacích otázká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ve you got any bro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áš nějakého bratra.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s there any cinema in your tow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 v tvém městě kino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Složené tvary se SOME a AN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whe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ěkde, něk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thing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ěco, co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one/someb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ěkdo, kdo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tim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ěkdy, obč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how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ějak, jaksi, jakkoliv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omewhile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někdy, obč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ywhe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někde, nikam, kamkoliv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kdeko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ything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něco, nic, coko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yone/anybod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někdo, nikdo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kdoko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ytim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kdyko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nyhow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nějak, nijak, jakko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teré ze zájmen používáme v záporné větě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jakého typu otázek používáme SOM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latí pro složené tvary se SOME a ANY stejná pravidla při používání jako u SOME a AN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é ze složených tvarů od obou zájme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41:34Z</dcterms:created>
  <dc:creator>Stanislav Tichota</dc:creator>
  <dc:description/>
  <dc:language>en-US</dc:language>
  <cp:lastModifiedBy>Macík</cp:lastModifiedBy>
  <dcterms:modified xsi:type="dcterms:W3CDTF">2012-08-13T17:08:05Z</dcterms:modified>
  <cp:revision>12</cp:revision>
  <dc:subject/>
  <dc:title>Neurčitá zájmena SOME a ANY</dc:title>
</cp:coreProperties>
</file>