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4D29-764C-49A7-AD95-ACAAFBC50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2E9F-C1F4-401F-AF30-853AD0E08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C991-4155-49FA-9B34-BE1C0731C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4381-9EA5-4803-9A98-72366818C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A256-53D0-43E3-BD6C-8BD3521DA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34A1-8E0E-4D1E-889E-F7C436EF9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186C-0F96-435F-895D-3DB70C60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AB06-153E-43AA-B5EC-F15DE4BD5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950A-086B-4EB9-9FD3-3F50D251A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17F3-E168-42FD-BDB5-7C1681A6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9BC0-EE2B-4CC6-AAC2-F8E7243A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597A-4929-4E93-B99E-A0874B1D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12402-F6C3-4DBC-8227-EF273A5C33EB}" type="slidenum">
              <a:rPr b="0" lang="cs-CZ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655640" y="333360"/>
          <a:ext cx="5756400" cy="1096920"/>
        </p:xfrm>
        <a:graphic>
          <a:graphicData uri="http://schemas.openxmlformats.org/drawingml/2006/table">
            <a:tbl>
              <a:tblPr/>
              <a:tblGrid>
                <a:gridCol w="5756400"/>
              </a:tblGrid>
              <a:tr h="11768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                                  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Soukromá Obchodní Akademie, spol. s.r.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               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Svatováclavská 1404, 438 01 Žat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                   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tel.: 415 726 003, fax: 415 726 003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                            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e-mail: soa@soazatec.cz, www.soazatec.c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Rectangle 3"/>
          <p:cNvSpPr/>
          <p:nvPr/>
        </p:nvSpPr>
        <p:spPr>
          <a:xfrm>
            <a:off x="1655640" y="3322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5465520" y="3877920"/>
            <a:ext cx="1523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134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etaBookCE-Roman"/>
                <a:ea typeface="Times New Roman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684440" y="1978200"/>
          <a:ext cx="5767200" cy="4376520"/>
        </p:xfrm>
        <a:graphic>
          <a:graphicData uri="http://schemas.openxmlformats.org/drawingml/2006/table">
            <a:tbl>
              <a:tblPr/>
              <a:tblGrid>
                <a:gridCol w="2884320"/>
                <a:gridCol w="2882880"/>
              </a:tblGrid>
              <a:tr h="384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DIGITÁLNÍ UČEBNÍ MATERIÁ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TÉMATICKÁ OBLAST –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ANGLICKÁ GRAMATIK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Název předmětu nebo činnos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	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Anglický jazy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Jméno, příjmení, titul auto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Marcela Tichotová, Mgr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Název prá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Ukazovací zájme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Stupeň a typ vzdělává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Středoškolské vzdělává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1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racovní skupina – tříd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1.roční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Očekávaný výstu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Aplikace pravidel pro použítí ukazovacích zájm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oužité programové vybav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owerpoi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oužitá studijní literatu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R. Murphy: Essential Grammar in Use, Cambridge 2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oužité nebo doporučené WWW stránk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5" name="Picture 45" descr=""/>
          <p:cNvPicPr/>
          <p:nvPr/>
        </p:nvPicPr>
        <p:blipFill>
          <a:blip r:embed="rId1"/>
          <a:stretch/>
        </p:blipFill>
        <p:spPr>
          <a:xfrm>
            <a:off x="1689120" y="620640"/>
            <a:ext cx="167652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0080"/>
                </a:solidFill>
                <a:latin typeface="Comic Sans MS"/>
              </a:rPr>
              <a:t>Ukazovací zájme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Comic Sans MS"/>
              </a:rPr>
              <a:t>pro jednotné čísl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f497d"/>
                </a:solidFill>
                <a:latin typeface="Comic Sans MS"/>
              </a:rPr>
              <a:t>THIS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(tento, tato, toto) – používáme pokud ukazujeme na 1 osobu či věc blízko ná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f497d"/>
                </a:solidFill>
                <a:latin typeface="Comic Sans MS"/>
              </a:rPr>
              <a:t>THAT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(tamten, tamta, tamto) - používáme pokud ukazujeme na 1 osobu či věc dále od ná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Comic Sans MS"/>
              </a:rPr>
              <a:t>pro množné čísl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f497d"/>
                </a:solidFill>
                <a:latin typeface="Comic Sans MS"/>
              </a:rPr>
              <a:t>THESE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(tyto, tato, tito) - používáme pokud ukazujeme na 2 a více osob či věcí blízko ná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f497d"/>
                </a:solidFill>
                <a:latin typeface="Comic Sans MS"/>
              </a:rPr>
              <a:t>THOSE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(tamty, tamti, tamta) - používáme pokud ukazujeme na 2 a více osob či věcí dále od ná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33ff"/>
                </a:solidFill>
                <a:latin typeface="Comic Sans MS"/>
              </a:rPr>
              <a:t>Revi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dpověz na otázky týkajících se probraného učiv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menuj ukazovací zájmena používaná v množném čísl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ý je český překlad zájmen THIS a THA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teré zájmeno použijeme pokud ukazujeme na více osob či věcí dále od ná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teré zájmeno použijeme pokud ukazujeme na jednu osobu či věc blízko ná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19:13:08Z</dcterms:created>
  <dc:creator>Admin</dc:creator>
  <dc:description/>
  <dc:language>en-US</dc:language>
  <cp:lastModifiedBy>Macík</cp:lastModifiedBy>
  <dcterms:modified xsi:type="dcterms:W3CDTF">2012-08-13T17:15:27Z</dcterms:modified>
  <cp:revision>11</cp:revision>
  <dc:subject/>
  <dc:title>Ukazovací zájmena</dc:title>
</cp:coreProperties>
</file>