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8D5-F6EC-4DD6-8520-D95E21DF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0FE-1F39-4180-9322-5676D4C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179-8302-4484-8650-E8004FAF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C66-EEFA-482D-A455-02D60825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8E9C-D7C0-48A2-B69A-617CF8F7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4C1C-4CBB-4812-BEBF-620CB36A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CB0E-1192-4A30-824E-29C18E4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3898-D38A-4E9E-B974-D1EE228C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FFA-AD07-4C30-8682-FAD51FEE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71D9-86D6-4548-96F4-FB7B67EC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4285-72D2-42D9-9B93-CDE0241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B2D-B4B9-4ADC-A40D-733A63A1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76AB-B2AE-4E61-AC96-798C89B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2F13-47F8-435E-B8AD-13A02A7F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BF52-EC00-4BEB-8FB7-E80F5BF4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4372-D135-48C5-9F90-187DA60C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34FE-0164-4778-96CD-6379D46F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508B-F405-4093-90FB-40019C74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061F-09DA-4F9C-830C-2A97291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32633-CDB0-48AA-B37C-B171AC4D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F821-B9FF-431F-87B4-0B548F80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5425-18D7-4CB2-BF05-1932BBB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22F-2EDA-46AA-8951-B1D7645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04E3-183F-4832-9AF9-CB0E4648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84F0-E5C5-4476-A204-E8232DC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088C-2CFF-4E98-B458-DBED61D7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7328-0298-4D8D-9D1F-A70AD08A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16B6-A70B-4B33-B89E-E6A32181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DAB7-9DAB-4B13-8D48-08C62C8E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D07D-30B5-4807-B9B4-10909C37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B57-FE38-4BB1-AFA4-033793E2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793-D038-40BD-9787-5C8264F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2A0-08A9-4546-93EB-9F8E69B6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AB9-235D-4413-AE92-D511C24D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786-D0ED-4D19-A41D-05DC56CE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F79-F91D-478E-B885-87A971C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E163-7638-4D68-BBC6-A258802EE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4047-D476-44DD-86A2-5ECCB841651D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4E9C-D1DB-4C34-AD19-0BEB31A6D7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azatec.cz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0120"/>
          <a:ext cx="5756400" cy="130356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303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</a:t>
                      </a:r>
                      <a:r>
                        <a:rPr b="0" lang="cs-CZ" sz="1400" spc="-1" strike="noStrike" u="sng">
                          <a:solidFill>
                            <a:srgbClr val="0000ff"/>
                          </a:solidFill>
                          <a:uFillTx/>
                          <a:latin typeface="Comic Sans MS"/>
                          <a:ea typeface="Lucida Sans Unicode"/>
                          <a:hlinkClick r:id="rId1"/>
                        </a:rPr>
                        <a:t>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55640" y="2060640"/>
          <a:ext cx="5767560" cy="4568760"/>
        </p:xfrm>
        <a:graphic>
          <a:graphicData uri="http://schemas.openxmlformats.org/drawingml/2006/table">
            <a:tbl>
              <a:tblPr/>
              <a:tblGrid>
                <a:gridCol w="2884680"/>
                <a:gridCol w="2882880"/>
              </a:tblGrid>
              <a:tr h="56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loveso být v minulém č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slovesa být v minulém č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9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73ff"/>
                </a:solidFill>
                <a:latin typeface="Comic Sans MS"/>
              </a:rPr>
              <a:t>Sloveso být v minulém čas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loveso být má v minulém čase dva tvar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níže je popsáno u kterých osob se který tvar používá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záporu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používáme k těmto tvarům ještě záporku not, potom vznikají tvar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as not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ere n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é se zkracují na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asn´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eren´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tázka se tvoří pouze přehozením podmětu a tvaru slovesa bý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krátkých odpovědí používáme v kladné odpovědi plný tvar a u záporného odpovědi zkrácené tv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Kladná vě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t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Záporná vě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n´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n´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n´t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n´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n´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t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n´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Otáz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he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200"/>
                </a:solidFill>
                <a:latin typeface="Comic Sans MS"/>
              </a:rPr>
              <a:t>Krátké odpově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 , I (he,she,it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, you (we, they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 I (he,she,it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as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 you (we, they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were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re you at home last night? No, I wasn´t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Byl jsi včera doma? Ne, nebyl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 was at the cinema last Friday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Byla jsem v kině minulý pátek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ildren weren´t at school yesterdy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Děti nebyly včera ve škole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73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olik tvarů má sloveso být v minulém čas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 jakých osob se používá tvar WA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 jakých osob se používá tvar WER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jsou zkrácené tvary u záporné vět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9:57:14Z</dcterms:created>
  <dc:creator>Admin</dc:creator>
  <dc:description/>
  <dc:language>en-US</dc:language>
  <cp:lastModifiedBy>Macík</cp:lastModifiedBy>
  <dcterms:modified xsi:type="dcterms:W3CDTF">2012-08-15T14:34:29Z</dcterms:modified>
  <cp:revision>11</cp:revision>
  <dc:subject/>
  <dc:title>Sloveso být v minulém čase prosté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