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92D-FF57-4CC0-8142-D005FD1A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D80-23BA-492C-B5DA-5AC88C72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41C-5D46-4F23-838B-60AA4DDE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9B9-AF44-4AD6-9BE1-8339C428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8797-30DD-42FD-A10C-4743A62C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9B8D-2129-4727-8B59-27979239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12FE-C93C-416E-950E-E6C73FEF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CE3B-D217-494F-BA46-B90DD7F2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A605-5014-4F21-AE17-64E2229B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D2B2-F999-4A86-8E7D-86DAB2F2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952E-2B44-49AF-A250-1F11A6A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CDB-9A65-42ED-97DA-93057BCD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4BB5-9C80-4003-B561-7F9F7DF2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42FF-31E6-40D0-B574-F34077AB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F290-BC23-4A58-904C-9AD002F5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D6E3-FBA1-4C66-BD9A-99C56A4C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35CD-6CC6-4BEE-8B95-F122A5CC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6143-9375-4398-9C35-CE87DCDC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7548-736D-4F82-B280-20ACC091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23DE-2140-4C1A-A15C-D02ADA4D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D382-F38C-45F1-ACCE-9D6A1ABA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2A4F-9453-4A72-8E69-87F396F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079-AAC7-4C7A-9E24-C8589885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AC55-D215-4812-B6C4-3B15ADF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4FB0-884F-40F9-9BD0-95514EBA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E9E5-165E-43A2-BEE4-FD0DAA0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210B-1E92-470E-AAFE-CA3D7C0B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4A01-4AD7-4BFD-95DD-8941917E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A2D0-7260-4370-A17E-8B65DB16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7067-40CE-4AAB-B1E9-4D612B3B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4DC-5A13-40CB-91CB-69ED7D7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96E-EC82-4092-922E-06B9C584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B91-74DE-4B74-87C5-C896CA37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451-D5ED-4897-A5B8-A52F66FA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43A-FFD1-4FDB-B884-52F1B32E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50F-6E38-4BCD-BD1E-4F3DEAE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03D8-0F66-461E-8EE1-AA67AFF620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DBD6-6252-4391-9A55-93FCB7D62104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8061-523D-4EB6-8089-B7677EE264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29408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inulý čas prost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minulý čas prost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33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 se probraného učiv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se nazývá minulý čas prostý v anglickém jazyc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é sitaci použijeme tento ča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dva druhy sloves rozeznáváme v minulém čas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mocí čeho utvoříme zápornou větu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á slovesa se výše uvedenými pravidly neřídí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á ze slov, jež se vyskytují v minulém čase prosté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703dff"/>
                </a:solidFill>
                <a:uFillTx/>
                <a:latin typeface="Comic Sans MS"/>
              </a:rPr>
              <a:t>Minulý čas prostý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Past simpl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isuje děj , který se odehrál v minulosti a skonči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Jak se tvoř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Kladná vě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u pravidelných slo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dmět + sloveso + 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watched TV yesterday eveni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Včera jsme se díval na televizi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t rained all day last Frida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Minulý pátek pršelo celý den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u nepravidelných slo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dmět + sloveso v příčestí minulé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(2.sloupek tab.neprav.slov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 went to the dentist last mont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Minulý měsíc šel k zubaři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We had delicious dinner yesterda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Včera jsme měli výbornou večeři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Záporná vě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mocí pomocného slovesa v minulém čase a záporky not (did + not = didn´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dmět + didn´t + slove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didn´t have lunch yesterda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Včera jsem neobědval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 didn´t enjoy the part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eužil si párty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Otáz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mocí pomocného slovesa do v minulém čase (di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Did + podmět + slove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id you go on holiday this summer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l si tohle léto na dovolenou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id she do the shopping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akoupila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Krátké odpovědi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Yes, I (you, he,she, it, we, they)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o, I (you, he,she, it, we, they)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didn´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Poz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loveso být a umět (moci) se těmito pravidly neřídí, májí své vlastní tv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zájmen I, he, she, it  j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ASN´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zájmen you, we, they  j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EREN´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loveso CAN má tvar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COULD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 COULDN´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Slova, která se vyskytují v minulém prostém č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esterda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vče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las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minulý, minulou, minul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go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před (2 days ag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4:02:26Z</dcterms:created>
  <dc:creator>Stanislav Tichota</dc:creator>
  <dc:description/>
  <dc:language>en-US</dc:language>
  <cp:lastModifiedBy>Macík</cp:lastModifiedBy>
  <dcterms:modified xsi:type="dcterms:W3CDTF">2012-08-13T17:07:30Z</dcterms:modified>
  <cp:revision>12</cp:revision>
  <dc:subject/>
  <dc:title>Minulý čas prostý (Past simple)</dc:title>
</cp:coreProperties>
</file>