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09B-091E-4FBB-8B62-6A001923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C8A-F8FA-4546-A284-4E5CA5C7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560-A2FE-4EBE-AD56-96690046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67F-5E97-4024-8FA8-B4A03271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6337-389F-443D-997D-2519F274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2402-F1F7-4E25-BA42-95FD6114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2D34-2AA3-4BDD-9D6C-9D3DB819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5779-4FB9-4A36-935D-C19C5DF9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C94D-1C8E-4E3E-A55C-09C790F2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6FB5-E0F7-4491-B53D-49362A41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66D9-AF72-4516-A832-DEC13EB4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B96-2809-4604-BFC0-01049271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8BC9-19F4-454C-9389-9F1A083E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CED0-C413-43E1-9FBA-177072F1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7E24-A221-48FD-BD8B-8E45C257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4AE9-9CBD-49D2-A7C4-FA984273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96C6-5FA3-4990-9F18-30D01412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802C-95A6-43CD-ABF1-B4C19F40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0230F-A910-4373-A5DB-0E7C7A99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7C01B-02A4-40D7-925B-F7A502A5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1BBC9-7253-4C36-814F-C9D5B340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80374-617E-4A1F-A066-1E934F69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CBA-7828-4FB5-B47B-5EDB5CC9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C6C09-85B2-4457-9662-D65B3F6D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AB404-D2EE-4413-AEE4-3C739640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EA06-8256-4500-94EB-69EC3A0F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2F01D-71F4-41E9-8A36-5FA1DBEB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7D58-30E0-42FA-8C31-CF0DA89F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6204-2F05-4181-9CB0-046DBEA8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B4E97-D10D-450C-94B8-341D5978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5EF-FA07-478F-BD68-1A0A33FA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839-C189-40E2-9DE4-3389DB71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866-566C-44B9-B76B-D5A689ED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20E-8BB5-43BC-B732-AADF1DB6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98B-74C3-4949-9CA9-F7FCEC6A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C7E-432B-4C75-9DA4-9E6E00F2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0A65-62DE-46BC-B7DD-4B0A76C531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44A7-D4B3-484E-B72A-004BAA608A9F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83D6-70D3-45AB-975E-F7AC84DD1B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azatec.cz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174600"/>
          <a:ext cx="5756400" cy="130968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176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</a:t>
                      </a:r>
                      <a:r>
                        <a:rPr b="0" lang="cs-CZ" sz="1400" spc="-1" strike="noStrike" u="sng">
                          <a:solidFill>
                            <a:srgbClr val="0000ff"/>
                          </a:solidFill>
                          <a:uFillTx/>
                          <a:latin typeface="Comic Sans MS"/>
                          <a:ea typeface="Lucida Sans Unicode"/>
                          <a:hlinkClick r:id="rId1"/>
                        </a:rPr>
                        <a:t>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712880"/>
          <a:ext cx="5767200" cy="466884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56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ředložky čas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předložek čas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7" descr=""/>
          <p:cNvPicPr/>
          <p:nvPr/>
        </p:nvPicPr>
        <p:blipFill>
          <a:blip r:embed="rId2"/>
          <a:stretch/>
        </p:blipFill>
        <p:spPr>
          <a:xfrm>
            <a:off x="1681200" y="620640"/>
            <a:ext cx="1676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Předložky času</a:t>
            </a:r>
            <a:br>
              <a:rPr sz="4400"/>
            </a:b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(Prepositions of time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Comic Sans MS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času (at half past eight, at 8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midn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week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hristmas / Ea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e end of  (at the end of the ter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e mo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0000"/>
                </a:solidFill>
                <a:uFillTx/>
                <a:latin typeface="Comic Sans MS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u dnů ( on Monda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u datumů (on 25th Apri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ew Year´s Day, on Monday morning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Comic Sans MS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měsíců ( in Januar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roku ( in 201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ročních období (in summ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částí dne ( in the morning, in the afternoom, in the even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n five minutes, in two months, in three days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Comic Sans MS"/>
              </a:rPr>
              <a:t>Bez předlož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is ( this wee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last (last Monda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ext (next yea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every (every da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esterday, tomorrow, a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33ff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 se probraného učiv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olik máme předložek času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é to jsou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dy používáme předložku O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menuj některé výrazy, kteé jsou bez předložk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9:07:26Z</dcterms:created>
  <dc:creator>Stanislav Tichota</dc:creator>
  <dc:description/>
  <dc:language>en-US</dc:language>
  <cp:lastModifiedBy>Macík</cp:lastModifiedBy>
  <dcterms:modified xsi:type="dcterms:W3CDTF">2012-08-13T17:10:44Z</dcterms:modified>
  <cp:revision>11</cp:revision>
  <dc:subject/>
  <dc:title>Předložky času</dc:title>
</cp:coreProperties>
</file>