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ED2-A211-4863-A183-F201DE67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172-FBD8-4A78-BFAB-DEE8FD43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BB0-C8FD-4086-A7AF-B4915D1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C65-0A5E-4D79-9E41-687FAA5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74B2-A5FB-4E4C-A635-55E78D2A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F057-E144-46E2-8FBF-867F51A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2E2-93DA-4DDE-B635-24E76237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3FB-17A3-4D7D-8B28-DDD2AC4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9184-DB15-48E4-9972-1F1FC2D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2307-71B1-4921-84F0-3C14C43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DFB-7F68-4E09-9330-7E624DA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CD0-87E3-43EB-96E0-0AA18C69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A254-09EA-4A3A-B83F-DA8EB67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7EFD-8E69-47F0-AA99-D3BF3AA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1CB-B1E5-4304-887F-905A0606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179D-02D9-49EC-8D4F-7C14D528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2979-5875-4CCD-9A9D-515967A2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EBE8-BC26-43AB-8E24-97DCB1BC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6ECC-4703-4F9A-B5FF-196943A8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60E5-99E4-4E70-B1EE-7DD641AB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4365-611A-4AD8-9B5E-6994A0A1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BBC4-7712-4A97-A864-13B1BFE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E8E-E512-4205-94E6-17905AE6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540B-8024-4B66-BD68-BA2995BE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AD5E-D18E-45B4-ACE9-120766D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EF15-93F8-4121-907C-AD630EC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FD11-5CDC-4A38-9D7E-0BA0D57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030A-9526-4893-B535-FD8E266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A2DC-4A3F-4497-9865-3A44B7F7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BD8A-FA12-4A95-815F-EC89C47D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8F8-41BE-47C0-A2E5-FDF05355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FBB-CCAC-4A6B-8B97-8B562D79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9B2-4334-4705-BC10-B173B3AF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B7A-F84E-49A8-BB7D-0BFB0CB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666-99F9-4B82-AA94-FC8E39D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34A-2627-4CB3-94BE-6BC53A4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155-AD24-400B-887F-92F7C560BC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E4E1-0ACE-4E7F-AE2C-FD4A31FBA9C0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564F-3A15-4BF6-B670-016748D46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54968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íslov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příslovcí (tvorba příslovcí koncovkou –ly   a postavení příslovcí ve větě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655640" y="53820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íslovce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Adverb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Postavení příslovcí ve vět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1. na začátku vě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Yesterda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t rained all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čera pršelo celý den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First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idy your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ejdřív si ukliď svůj pokoj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2. uprostřed vě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leží u slovesa, pokud je ve věte ještě pomocné sloveso, následuje příslovce hned za ní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alway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look sm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Vždy vypadáš dobře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he story is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probabl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un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Příběh je pravděpodobně vymyšlený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t doesn´t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ofte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rain in Saha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V Sahaře často neprší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have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jus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had dinn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rávě jsme večeřel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3. na konci vě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Everyone waited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patientl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Každý trpělivě čekal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will finish the job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nex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wee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Dokončíme práci příští týden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Tvorba příslovcí pomocí koncovky -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ěkterá příslovce se tvoří z přídavných jmen přidáním koncovk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apř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quick + ly = quick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udden + ly = sudden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!!!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pozor však na některé změny v pravopis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eas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+ ly = eas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eav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+ ly = heav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arefu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+ ly = carefu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Slova, která jsou zároveň přídavná jména a příslov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rd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tvrdý, tvrd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fas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ychlý, rych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lat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pozdní, pozd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earl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anný, brz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z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lovo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hardl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existuje ale nemá význam ve smysl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rdě, ale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zřídkakd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nebo také ve spojení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hardly ever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což znamená </a:t>
            </a: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skoro nik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Nepravidelná tvorb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good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dobrý) =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ll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dobř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e všude mohou stát příslovce ve větě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tvoříme většinu příslovcí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jakého slovního druhu tvoříme vetšinou příslov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některé ze slov, která jsou zároveň přídavná jména a příslov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nepravidelné příslov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41:40Z</dcterms:created>
  <dc:creator>Stanislav Tichota</dc:creator>
  <dc:description/>
  <dc:language>en-US</dc:language>
  <cp:lastModifiedBy>Macík</cp:lastModifiedBy>
  <dcterms:modified xsi:type="dcterms:W3CDTF">2012-08-13T18:49:43Z</dcterms:modified>
  <cp:revision>10</cp:revision>
  <dc:subject/>
  <dc:title>Příslovce (Adverbs)</dc:title>
</cp:coreProperties>
</file>