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3DFF-941E-45EE-A2DB-284B26918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0410-95DB-4384-ACB0-8A310BB0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BEC9-B6E7-4BF1-BF81-C0EF9F6DE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6681-1B63-4391-B58C-2D1ECCC57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DFF6-D31E-4495-8A0A-E0404491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78619-AB77-41A3-8957-1455AA95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6299-5901-4A8C-B179-724CD271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9238-70C6-4FFB-87FA-474140DC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1A9B-93D5-4337-A1AD-606FDD76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343D-42ED-4B70-B510-AD098EDC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2CEC-BB6C-46D9-8BDA-BE393240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E8DB-9C59-43ED-99F3-F6077CE7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03A4-F373-41D7-925E-3BEED5EB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90CA-FF09-4ACD-9C3D-471BD589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CC49-D78A-43C2-AE33-CB4F887B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442B-230F-4E8A-8146-BF79934D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5E2A-69A8-495C-98CD-CFD691E25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C4847-2D2D-4B22-82D6-57673CFCA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205EB-CD87-4263-B046-419E5596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FFC34-6F0B-4533-AD45-46EFFEB7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784ED-4787-4E82-9717-362E573F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ECB11-A0A0-43CE-AB82-37ACD1EA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35D8-8269-416A-875A-6BD4B122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4CCB0-6372-4198-B45C-E2C5A541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D739A-9C95-40F3-87D5-D61DCABC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6CA98-04F3-4A86-B141-364FD232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ABEEE-7F0A-42F7-BE3F-9F46F347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414BA-9DAE-460A-9A50-06515CE5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EBC0E-7C8E-44E8-BAE3-071ADF961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42751-0B1E-43CC-B24F-C59BCAD8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357E-755F-4518-8723-354C7AC2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D5E1-9D0F-4C9F-B265-698DD1C0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620B-8419-4BDE-9686-AFA7AFE0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CD62-B1D6-44F4-9674-03BACAE8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4D89-28A2-4E77-9DB7-FBE766EA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052D-3FA3-410A-AE8E-33E0B85B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C504-5AFD-40C6-9B6F-C4539CC1E2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E8F4-97BC-45C3-A26B-E9702D31C883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840E-C65D-40F7-9B7D-B109470562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666800" y="260280"/>
          <a:ext cx="5756400" cy="1096920"/>
        </p:xfrm>
        <a:graphic>
          <a:graphicData uri="http://schemas.openxmlformats.org/drawingml/2006/table">
            <a:tbl>
              <a:tblPr/>
              <a:tblGrid>
                <a:gridCol w="5756400"/>
              </a:tblGrid>
              <a:tr h="1211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 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oukromá Obchodní Akademie, spol. s.r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vatováclavská 1404, 438 01 Žat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el.: 415 726 003, fax: 415 726 003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e-mail: soa@soazatec.cz, www.soazatec.c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Rectangle 3"/>
          <p:cNvSpPr/>
          <p:nvPr/>
        </p:nvSpPr>
        <p:spPr>
          <a:xfrm>
            <a:off x="1655640" y="3322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5465520" y="3877920"/>
            <a:ext cx="152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CE-Roman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84440" y="1628640"/>
          <a:ext cx="5767200" cy="4378320"/>
        </p:xfrm>
        <a:graphic>
          <a:graphicData uri="http://schemas.openxmlformats.org/drawingml/2006/table">
            <a:tbl>
              <a:tblPr/>
              <a:tblGrid>
                <a:gridCol w="2884320"/>
                <a:gridCol w="2882880"/>
              </a:tblGrid>
              <a:tr h="384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DIGITÁLNÍ UČEBNÍ MATERIÁ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TÉMATICKÁ OBLAST –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NGLICKÁ GRAMAT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ázev předmětu nebo činnos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nglický jazy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Jméno, příjmení, titul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Marcela Tichotová, Mg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ázev prá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Budoucí čas pomocí GOING 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tupeň a typ vzdělá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tředoškolské vzdělá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racovní skupina – tří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2. 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Očekávaný výstu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plikace pravidel pro použití budoucího času  pomocí GOING 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é programové vybav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werpoi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á studijní literatu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R. Murphy: Essential Grammar in Use, Cambridge 2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é nebo doporučené WWW stránk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6" name="Picture 45" descr=""/>
          <p:cNvPicPr/>
          <p:nvPr/>
        </p:nvPicPr>
        <p:blipFill>
          <a:blip r:embed="rId1"/>
          <a:stretch/>
        </p:blipFill>
        <p:spPr>
          <a:xfrm>
            <a:off x="1763640" y="453960"/>
            <a:ext cx="167652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03dff"/>
                </a:solidFill>
                <a:latin typeface="Comic Sans MS"/>
              </a:rPr>
              <a:t>Budoucí čas pomocí GOING T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omic Sans MS"/>
              </a:rPr>
              <a:t>Používáme při plánované budouc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´m going to move next month. </a:t>
            </a:r>
            <a:r>
              <a:rPr b="0" lang="cs-CZ" sz="1000" spc="-1" strike="noStrike">
                <a:solidFill>
                  <a:srgbClr val="000000"/>
                </a:solidFill>
                <a:latin typeface="Comic Sans MS"/>
              </a:rPr>
              <a:t>(Příští měsíc se stěhuji.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What are going to do this evening? </a:t>
            </a:r>
            <a:r>
              <a:rPr b="0" lang="cs-CZ" sz="1000" spc="-1" strike="noStrike">
                <a:solidFill>
                  <a:srgbClr val="000000"/>
                </a:solidFill>
                <a:latin typeface="Comic Sans MS"/>
              </a:rPr>
              <a:t>(Co budete dělat dnes večer?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he´s not going to go to school tomorrow. </a:t>
            </a: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Zítra nejde do školy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omic Sans MS"/>
              </a:rPr>
              <a:t>Při popisu budoucnosti jež je zřejmá z okolnost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t´s going to rain. </a:t>
            </a: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Bude pršet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he´s going to have a baby. </a:t>
            </a: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Bude mít dítě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he shelf is going to fall down. </a:t>
            </a: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Police spadne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03dff"/>
                </a:solidFill>
                <a:latin typeface="Comic Sans MS"/>
              </a:rPr>
              <a:t>Jak se tvoří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703dff"/>
                </a:solidFill>
                <a:latin typeface="Comic Sans MS"/>
              </a:rPr>
              <a:t>Kladná vě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Po + sloveso být + going to + slove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703dff"/>
                </a:solidFill>
                <a:latin typeface="Comic Sans MS"/>
              </a:rPr>
              <a:t>Záporná vě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Po + sloveso být + going to +slove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v zápor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03dff"/>
                </a:solidFill>
                <a:latin typeface="Comic Sans MS"/>
              </a:rPr>
              <a:t>Otázk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omic Sans MS"/>
              </a:rPr>
              <a:t>Sloveso být + Po + going to + sloves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03dff"/>
                </a:solidFill>
                <a:latin typeface="Comic Sans MS"/>
              </a:rPr>
              <a:t>Krátké odpověd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Yes, I </a:t>
            </a:r>
            <a:r>
              <a:rPr b="0" lang="cs-CZ" sz="1800" spc="-1" strike="noStrike">
                <a:solidFill>
                  <a:srgbClr val="ff0000"/>
                </a:solidFill>
                <a:latin typeface="Comic Sans MS"/>
              </a:rPr>
              <a:t>am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Yes, he(she,it) </a:t>
            </a:r>
            <a:r>
              <a:rPr b="0" lang="cs-CZ" sz="1800" spc="-1" strike="noStrike">
                <a:solidFill>
                  <a:srgbClr val="ff0000"/>
                </a:solidFill>
                <a:latin typeface="Comic Sans MS"/>
              </a:rPr>
              <a:t>is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Yes, you (we, they) </a:t>
            </a:r>
            <a:r>
              <a:rPr b="0" lang="cs-CZ" sz="1800" spc="-1" strike="noStrike">
                <a:solidFill>
                  <a:srgbClr val="ff0000"/>
                </a:solidFill>
                <a:latin typeface="Comic Sans MS"/>
              </a:rPr>
              <a:t>are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o, I´</a:t>
            </a:r>
            <a:r>
              <a:rPr b="0" lang="cs-CZ" sz="1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1800" spc="-1" strike="noStrike">
                <a:solidFill>
                  <a:srgbClr val="ff0000"/>
                </a:solidFill>
                <a:latin typeface="Comic Sans MS"/>
              </a:rPr>
              <a:t>not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o, he(she,it) </a:t>
            </a:r>
            <a:r>
              <a:rPr b="0" lang="cs-CZ" sz="1800" spc="-1" strike="noStrike">
                <a:solidFill>
                  <a:srgbClr val="ff0000"/>
                </a:solidFill>
                <a:latin typeface="Comic Sans MS"/>
              </a:rPr>
              <a:t>isn´t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o, you (we, they) </a:t>
            </a:r>
            <a:r>
              <a:rPr b="0" lang="cs-CZ" sz="1800" spc="-1" strike="noStrike">
                <a:solidFill>
                  <a:srgbClr val="ff0000"/>
                </a:solidFill>
                <a:latin typeface="Comic Sans MS"/>
              </a:rPr>
              <a:t>aren´t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z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boudoucí čas pomocí going to je zaměnitelný s přítomným časem průběhovým a to v případě pokud popisujeme plánovanou budoucno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př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´m going to meet my friends at the weeken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omic Sans MS"/>
              </a:rPr>
              <a:t>(O víkendu se setkám s kamarády.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´m meeting my friends at the weeken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omic Sans MS"/>
              </a:rPr>
              <a:t>(O víkendu se setkám s kamarády.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30a0"/>
                </a:solidFill>
                <a:latin typeface="Comic Sans MS"/>
              </a:rPr>
              <a:t>Revi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dpověz na otázky týkajících se probraného učiv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dy se používá budoucí čas pomocí GOING TO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 jakým jiným čase lze zaměnit v případě popisu plánované budouctnosti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o vše musí být v kladné větě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 se dělá zápor v tomto čas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09:25:01Z</dcterms:created>
  <dc:creator>Stanislav Tichota</dc:creator>
  <dc:description/>
  <dc:language>en-US</dc:language>
  <cp:lastModifiedBy>Macík</cp:lastModifiedBy>
  <dcterms:modified xsi:type="dcterms:W3CDTF">2012-08-13T18:46:04Z</dcterms:modified>
  <cp:revision>11</cp:revision>
  <dc:subject/>
  <dc:title>Budoucí čas pomocí GOING TO</dc:title>
</cp:coreProperties>
</file>