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6F5-28E8-46DA-BA61-F1BB7BC4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29C-E98F-4175-82CF-3E8DEC62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D83-349C-4999-894C-B633FB4C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0C8-5965-46A9-8D82-532F690B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8731-B67A-4578-86BD-10581BB1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4953-9DDC-478A-8A80-05069E23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4E6A-08DC-445A-BE57-D72510BB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0F55-328C-4C0B-B4E7-76023574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34CA-4EBA-4A24-B4A4-B303FB21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8D8A-7C07-4B5F-83D8-5A1CC05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5598-6153-43FD-808E-070A46B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1B8-2C31-41EE-9637-0D5EB80A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1EC6-1CB8-4C5C-AC9D-D44B0BCF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9635-46F9-4849-8671-8CFF1E79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5802-D6A7-41F0-A4AA-63EB3D3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BDC4-43E6-45DE-B616-B46AE62E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1E34-A224-4E82-8232-7A003332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DD7E-6849-4B22-95C7-3D72641B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F867-7F91-437C-8042-0FDEECC6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A2CB0-C0BF-4F1A-83B0-A11FB291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C0BC-1FC6-4F71-954B-36BF392B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CE157-702B-4A6D-8D91-B88755E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90B-109C-4070-B384-B09CC883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3E90-881E-4176-9A47-5692259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9D10-E013-4E53-B59C-4E26EAFA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26E4-ED33-415F-A1B1-EADAACF9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D639-45C3-4263-AD77-48EF344E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A537-C7D1-48C3-9D33-7D27F2B3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1994-BBB8-4DB2-956B-E48FF8D0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38843-95F4-4156-AA68-556CE597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7ED-3911-4FC7-A956-2DCBA07C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CB0-E110-42DE-BCFD-3C99E0A0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5D1-0678-4952-8548-60F19E25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AF5-2AE2-4354-B80D-69892A79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8E8-B2A8-41AA-B62C-071B2C3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B41-310A-4190-8A2D-51F8DD50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CFCC-16A7-4F14-A294-54FBAC092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734-FC8C-4563-956C-2BF6896BB349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BE14-D81B-4E86-86E0-3A19348B2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ňování přídavných j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stupňování přídavných j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167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Stupňování přídavných j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Krátká přídavná jmé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jedno až dvouslabičn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II. stup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comparative) přidáváme koncovku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–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ld – cold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t – hott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eavy – heavi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ice- nic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III. stupně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superlative) přidáváme před příd.jméno určitý člen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a koncovku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–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old-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cold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ot –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hott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avy –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havi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ice –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nic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2. Dlouhá přídavná jména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víceslabičná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u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II. stupně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comparative) přidáváme před přídavné jméno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teresting –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mor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interes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beatiful –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mor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beauti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angerous – 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mor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dange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III. stupně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superlative) přidáváme před příd.jméno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THE M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resting –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the mos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interes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atiful –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the mos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beauti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angerous –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the mos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danger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3. Nepravidelné stupň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good –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better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cs-CZ" sz="3200" spc="-1" strike="noStrike">
                <a:solidFill>
                  <a:srgbClr val="ffef66"/>
                </a:solidFill>
                <a:latin typeface="Comic Sans MS"/>
              </a:rPr>
              <a:t>the b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ad –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wors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cs-CZ" sz="3200" spc="-1" strike="noStrike">
                <a:solidFill>
                  <a:srgbClr val="ffef66"/>
                </a:solidFill>
                <a:latin typeface="Comic Sans MS"/>
              </a:rPr>
              <a:t>the wor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r –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farthe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cs-CZ" sz="3200" spc="-1" strike="noStrike">
                <a:solidFill>
                  <a:srgbClr val="ffef66"/>
                </a:solidFill>
                <a:latin typeface="Comic Sans MS"/>
              </a:rPr>
              <a:t>the fath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furthe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cs-CZ" sz="3200" spc="-1" strike="noStrike">
                <a:solidFill>
                  <a:srgbClr val="ffef66"/>
                </a:solidFill>
                <a:latin typeface="Comic Sans MS"/>
              </a:rPr>
              <a:t>the furth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stupňujeme krátká přídavná jména ve II.stupni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vytváříme III.stupeň u dlouhých přídavných jme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jmenuj tři nepravidelná přídavná jmé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stupňuj přídavného jméno G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07:27:55Z</dcterms:created>
  <dc:creator>Stanislav Tichota</dc:creator>
  <dc:description/>
  <dc:language>en-US</dc:language>
  <cp:lastModifiedBy>Macík</cp:lastModifiedBy>
  <dcterms:modified xsi:type="dcterms:W3CDTF">2012-08-13T18:50:45Z</dcterms:modified>
  <cp:revision>12</cp:revision>
  <dc:subject/>
  <dc:title>Stupňování přídavných jmen</dc:title>
</cp:coreProperties>
</file>