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25C-8F50-4915-ABC6-DFFA051D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D2D-D367-4B0A-AACE-B0021460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D10-5440-44A4-8003-B4984F71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20C-E12B-4E50-885C-4A6F0461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652-3552-4F5E-BC56-EF01A877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26EC-5154-405E-941A-6A6A7827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8993-71C7-4735-83D5-23409E2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0C4-2E64-4A57-8FF6-9F06639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5668-3358-472B-90D7-FB399F7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2172-295A-498F-A0A2-B597004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4D7E-7027-45A7-A94A-0688720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7A0-069E-4E5D-9833-C3D4C4F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7DB8-74A7-4898-A2DA-9A963A3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0D9D-BAB9-4B05-9553-FB90904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B687-0E7D-45EE-A753-4E54813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61F-F596-4811-9525-28D489B6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C9E-C2A6-4F53-A181-93941855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001B-48D6-4C1F-A809-D7C42073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BB44-7C60-4B94-9CB7-497ABCFF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BB5B-C215-43B8-8D78-D90E444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3ED9-43BD-4B16-A159-86072DFA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D333-D345-4809-82F6-AFAE7452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33D-FA0E-4E26-9292-0A00DC2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7757-28EE-4701-95BD-4FD04AB9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AC66-3B94-48D5-B950-D1010DD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64E7-A7DD-4A40-A525-E01F0DA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3A72-865A-4258-B8F9-7EE3951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FFE5-45CF-4F4A-8E8F-D490D8E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A452-42D8-4510-A9DB-63E084F6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DC6A-7AF5-445F-A90A-9FF99391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3F9-0869-4ACB-A080-47061BD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5CE-010E-4B82-AC6D-E0F940A1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DD7-447D-49B4-AC70-4F05472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002-9340-41D6-B948-6F7369C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5C3-8BCA-4322-A2B0-71571CE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C4A-29B0-461C-80B1-E1EAE59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7C9E-FC16-4D71-AC36-CCAAA020F0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5381-B18D-4BC9-87FF-297808C0599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CBC0-0C24-4C81-BB0B-6BCC50210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doucí čas pomocí W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 budoucí čas pomocí W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Budoucí čas pomocí WI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užívá se k vyjádřen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spontánního rozhodnut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You look tired. I´ll help you.)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Vypadáš unaveně. Pomůžu ti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předpovídání budouc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eople will spend holiday on Moon in the future.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V budoucnu budou lidé trávit prázdniny na Měsíci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slib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I´ll help you with your HW.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Pomůžu ti s dú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prosb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(Will you shut the window?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Zavřeš okno?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odmítnut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I won´t go to the cinema with you.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Nepůjdu s tebou do kina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názor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 I think she won´t pass her exam.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Myslím si, že nesloží zkoušku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 + will + 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 + won´t (will not) + 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ill + Po + 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rátké odpově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es, I (you, he she it, we, they)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 wi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o, I (you, he she it, we, they)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 won´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Zkrácené tv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will = I´l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will = you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will = she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will = he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will = it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 will = we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 will = they´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hall = wi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hall not = shan´t = won´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používáme u 1.os.č.j. (I) a 1.os.č.mn. (we), můžeme ho použít místo will, ale v mluvené angličtině je to méně časté, avšak možn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 shall be tired this evening. (nebo I´ll be tired this evening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Večer budu unavený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e shall probably go to Scotland (nebo We´ll probably go to Scotland)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Pravděpodobně pojedeme do Skotska.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all spíše používáme v otázkách, především pokud něco někomu nabízíme nebo navrhuj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all I open the window?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Mám otevřít okno?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all we go to the cinema?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Půjdeme do kina?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Slova, která se vyskytují u budoucích ča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omorrow – zít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 day after tomorrow - pozítř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xt – příští, dalš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… - za (in 5 minu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é situace, ve kterých se používá budoucí čas pomocí WIL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děláme zápor v tomto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á slova, která se vyskytují v budoucím ča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ých osobách používáme SHAL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ý je zápor od SHAL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04:02Z</dcterms:created>
  <dc:creator>Stanislav Tichota</dc:creator>
  <dc:description/>
  <dc:language>en-US</dc:language>
  <cp:lastModifiedBy>Macík</cp:lastModifiedBy>
  <dcterms:modified xsi:type="dcterms:W3CDTF">2012-08-13T18:46:18Z</dcterms:modified>
  <cp:revision>14</cp:revision>
  <dc:subject/>
  <dc:title>Budoucí čas pomocí WILL</dc:title>
</cp:coreProperties>
</file>