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AB7-AF5D-4B25-A411-9B849425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8F9-7A7B-4340-B909-B85E9DBD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F7B-10C7-41F9-A3DF-346FBCAC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2ED-35A5-43E1-BD17-408EF8EB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05B0-3696-4F5B-8BC0-DBCF73BE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328D-121D-4241-9EF4-33BD99FB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0526-C732-4F91-887E-716F53E7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0259-2432-4244-8391-53F9F865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C226-C524-4675-9C41-D8AC9582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127C-F1A5-4354-A031-C3D14BCC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0570-17B1-4ED8-A223-27A3C45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5ED-3C66-45B6-AF7A-857EAB45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0DFB-3B9E-4B52-9A8C-325BDE71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2EC5-610F-459B-8648-CB2E8F8E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F6E6-431B-485C-B596-759D176C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B457-48A6-43D5-B971-34E62297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4FA6-D2E3-4290-A08C-30258FE4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E3E1-F6B8-4E83-9559-0625CF1F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C6C0-AE8A-46DA-8996-30170154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AF130-940E-4E1F-9AE9-FA4CA266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18C6-325C-4169-ABC3-986F6FC2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E459-FD06-4F83-A7B4-AF8C9489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526-B166-4F6B-B9EC-74B6C3ED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3C79-A004-48D9-9816-005356CA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1FE3-4810-48AF-8C8C-6389CD6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DFED-E4EE-49DE-927F-840E0E1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B8D8-EBB4-4BC6-85DC-967F9092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1288-062A-46E1-9658-B4A07539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D6A4F-8C46-41FE-8318-3070F429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C51F-F895-4077-83D3-FEF889CE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850-F971-49E2-9133-3C47ED6E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BD9-024C-4FA9-B24C-5EFE759A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A64-17A5-42EE-B554-664F664F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0A6-9E76-4703-9B3E-3BE6D126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76F-A409-4219-85F8-9F8AEEDA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BB9-AE6C-41AF-9667-D486AF9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7E0E-3EB7-424F-83A3-300722EDCD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F01C-CD2F-44A8-BE01-6D859E729AB1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7620-3858-4459-BF7E-BD8CD6295E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1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773360"/>
          <a:ext cx="5767200" cy="487980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Zájmena přivlastňovací samostatně stojící a zájmena stojící v předmě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zájmen přivlastňovacích samostatně stojících a zájmen stojících v předmě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1676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Zájmena přivlastňovací samostatně stojíc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tojí většinou na konci věty a nenásleduje za nimi již žádné podstatné jméno, jelikož to již bylo zmíněno ve větě předchoz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min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můj, moje, m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our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tvůj, tvoje, t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i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jeh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er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jej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ts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jeho, její (u neživých věcí, zvířa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our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náš, naš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our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váš, vaš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heir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jeji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hose is this bag? It´s mine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Čí je to batoh? Je můj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ir house is bigger than ours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ejich dům je větší než náš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dff"/>
                </a:solidFill>
                <a:latin typeface="Comic Sans MS"/>
              </a:rPr>
              <a:t>Zájmena stojící v předmětu </a:t>
            </a:r>
            <a:br>
              <a:rPr sz="4000"/>
            </a:br>
            <a:r>
              <a:rPr b="0" lang="cs-CZ" sz="4000" spc="-1" strike="noStrike">
                <a:solidFill>
                  <a:srgbClr val="703dff"/>
                </a:solidFill>
                <a:latin typeface="Comic Sans MS"/>
              </a:rPr>
              <a:t>(Object pronouns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m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mě, mne, mi, mno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tě, tebe, tobě, tebo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jemu, ho, ním, jej, mu, něh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jí, ji, 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nás, námi, ná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vás, vám, vá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hem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je, jim, nimi, ni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e don´t see him very often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Nevidíme ho moc často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y know us very well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Znají nás velmi dobře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73ff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č se říká přivlastňovacím zájmenům samostaně stojící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ůže za samostatně stojícími přivlastňovacími zájmeny stát ve věte podstatné jmén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nazýváme zájmena stojící v předmětu v anglickém jazyc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jmenuj tři zájmena přivlastňovací samostatně stojící a tři zájmena stojící v předmět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9:52:51Z</dcterms:created>
  <dc:creator>Admin</dc:creator>
  <dc:description/>
  <dc:language>en-US</dc:language>
  <cp:lastModifiedBy>Macík</cp:lastModifiedBy>
  <dcterms:modified xsi:type="dcterms:W3CDTF">2012-08-15T14:59:17Z</dcterms:modified>
  <cp:revision>12</cp:revision>
  <dc:subject/>
  <dc:title>Zájmena přivlastňovací samostatně stojíc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