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9A9-E363-4C33-861B-9579896B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53B-DB44-48A0-8DBA-2CBF5351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67C-6CCE-4A59-9355-C476516E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E91-3108-432A-AC28-6CA4DC91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2761-578F-44CF-918C-4F39DF71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8993-5C66-42D6-9F9F-3644E9A2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E2C0-7762-4402-BC40-F532FAEA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29F1-A20C-4494-A238-D76ADBF2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5ABC-B1BB-426A-AF46-F35CE176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D7B6-FD94-42A0-BD4D-D8427FF5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E4A8-4717-45C3-B3EB-B0037403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B78-4173-4B2E-9490-06CEA71D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2B0D-5FB8-4E90-AF03-455B3137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F1D4-2E4F-4F76-A986-7C1376B6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AA2C-0ACC-4D20-A56D-4CB5E9C3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F387-8689-45F9-B6AF-F12927B4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6C99-46BE-498E-9EA2-983E3E1D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161C-9FA2-4ED6-894E-9CFCFD0B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29D8-7877-4275-9B2A-24339134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EE9A1-DDD6-4957-9145-3DED5690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FF57-DFDF-485E-B59B-5871B388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B62A5-52F4-49EC-B3BA-77448E68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BC5-28A5-421E-A097-E2C573B5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CF69-77A2-4700-B59A-7D13CE9F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9874-8146-496D-AEC0-DC436412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004F6-33DD-4CB5-97A2-B0E0DE60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D797E-A700-41A5-B6DF-8840AECE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25DD-203D-4E55-8617-BEE13156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0518-84B1-4E74-B488-E1902B26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8B48-86DD-4A08-811B-71ED1FF6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4F0-8C9D-41A1-990C-453C1F0A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CCB-E329-4B21-8D7C-8EC998E6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8C0-2866-4CF1-933F-D4EBB012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A14-68DA-411A-A833-65F4845B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40B-2441-4912-8E50-EC920AC1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478-E810-43C3-8801-D63A3264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8E81-6B97-441C-A83A-34C5091E35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F086-4EDC-40C5-B1D8-A4EB71426399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6535-1E0A-4684-B487-825AADC1FE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21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77336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inulý čas průběhov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.-4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minulý čas průběhov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16765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Minulý čas průběhový</a:t>
            </a:r>
            <a:br>
              <a:rPr sz="4400"/>
            </a:b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(Past continuou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isuje minulý děj, o kterém víme, kdy se odehrál (např. co jsme dělali včera ve tři, večer, minulou sobotu ráno apod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Jak se tvoř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Kladná vě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Podmět + was/were + sloveso + 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 was walking my dog yesterday at 7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V sedm hodin jsem venčil psa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y were listening to some music last nig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Minulou noc poslouchali hudbu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Záporná vě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Podmět + wasn´t/ + sloveso + 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n´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t wasn´t raining this morn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Dnes ráno nepršelo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hildren weren´t listening to the teacher during the English less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Děti neposlouchaly učitelku během hodiny anglčtiny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Otáz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/Were + podmět + sloveso + 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What were you doing at 3 in the morn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Co jsi dělal ve tři ráno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Was she studying French this afterno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Učila se odpoledne francoužštinu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Krátké odpověd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es, I (he, she,it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es, you (we, they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o, I (he, she,it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o, you (we, they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ff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nazýváme minulý čas průběhový v anglickém jazyc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u koncovku dáváme ke slovesu v tomto čas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užíváme pro vytvoření otázky či záporu sloveso být nebo děla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jaké situaci používáme tento ča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třebujeme znát nepravidelná slovesa pro tento ča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2:48:38Z</dcterms:created>
  <dc:creator>Stanislav Tichota</dc:creator>
  <dc:description/>
  <dc:language>en-US</dc:language>
  <cp:lastModifiedBy>Macík</cp:lastModifiedBy>
  <dcterms:modified xsi:type="dcterms:W3CDTF">2012-08-13T18:48:17Z</dcterms:modified>
  <cp:revision>11</cp:revision>
  <dc:subject/>
  <dc:title>Minulý čas průběhový (Past continuous)</dc:title>
</cp:coreProperties>
</file>