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3D3E-84B7-4767-8825-50A1A111F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F7D5-6E78-4564-AB9C-8E8501E8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085D-4F81-4B51-8762-183F86664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1611-17F0-44CE-A5CA-87D7A72A4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09E0-00AE-4E40-9ED4-0ED63F8F0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351D-85D1-4043-AFAE-DC5723F6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B9E3-D2CC-480B-8EC9-B38F2944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9C8F-30CD-4F20-893F-13159AE9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B28B-244D-422C-9594-1221E24F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717A-DA64-4321-B6B3-23405871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F70E-61F3-44C5-A542-864550D9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7528-C605-4CCC-B0DF-5965D53E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949A-D3BE-460E-9F90-2F9890AD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3FDB-77E8-4BF4-85A6-3CAB0D86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1833-44A4-43BF-A624-6737FC99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A075-D184-4C7E-8933-0ED74613F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2A42-DE74-4C9D-B0A4-D87351540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7828A-2F40-45E4-B160-62830556B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B867C-CC9A-4EE3-9345-B8E91330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F0682-39E3-4E75-805E-E3D7BD7E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C7E14-C713-4308-8441-2778AA97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9BD02-4EEB-43DB-B983-4087F00D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7F60-0B08-4800-BF1E-4EC079B1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81C09-BB12-47E3-B3FC-C128ADA3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D2529-FB0E-4C73-A7E4-F79440D5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FABA2-A2E3-4DBB-A27D-5FCDE596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5B144-5A82-4C14-A47E-E8E84E2D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12AB5-27E6-456F-920B-23EBC890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70ED1-6C9D-409A-B118-E12ECA147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BABAE-0306-47E8-83F1-0722B2479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05D6-6E90-453E-B634-5999AB76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527C-EA67-49EC-97F0-13322C78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18EA-DD5C-48D8-9623-25ED088B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F20B-ACD1-4FA5-BEE6-C0E1B8C5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26C1-7EC5-49E2-BEE6-1B1093E1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EAC0-C122-432C-9BE7-FCD9A27F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C0C4-7879-4DCF-9AD9-802A6F6975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6B6F-919E-4C33-89E3-D0EDF0A0C512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0ABB-DEF0-4809-A45F-0AD54EF1D4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655640" y="333360"/>
          <a:ext cx="5756400" cy="1096920"/>
        </p:xfrm>
        <a:graphic>
          <a:graphicData uri="http://schemas.openxmlformats.org/drawingml/2006/table">
            <a:tbl>
              <a:tblPr/>
              <a:tblGrid>
                <a:gridCol w="5756400"/>
              </a:tblGrid>
              <a:tr h="1211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Soukromá Obchodní Akademie, spol. s.r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Svatováclavská 1404, 438 01 Žat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el.: 415 726 003, fax: 415 726 003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e-mail: soa@soazatec.cz, www.soazatec.c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Rectangle 3"/>
          <p:cNvSpPr/>
          <p:nvPr/>
        </p:nvSpPr>
        <p:spPr>
          <a:xfrm>
            <a:off x="1655640" y="3322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5465520" y="3877920"/>
            <a:ext cx="152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CE-Roman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84440" y="1844640"/>
          <a:ext cx="5767200" cy="4378320"/>
        </p:xfrm>
        <a:graphic>
          <a:graphicData uri="http://schemas.openxmlformats.org/drawingml/2006/table">
            <a:tbl>
              <a:tblPr/>
              <a:tblGrid>
                <a:gridCol w="2884320"/>
                <a:gridCol w="2882880"/>
              </a:tblGrid>
              <a:tr h="384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DIGITÁLNÍ UČEBNÍ MATERIÁ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TÉMATICKÁ OBLAST –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NGLICKÁ GRAMAT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ázev předmětu nebo činnos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nglický jazy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Jméno, příjmení, titul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Marcela Tichotová, Mg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ázev prá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ředpřítomný čas prost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tupeň a typ vzděláv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tředoškolské vzděláv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racovní skupina – tří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2. 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Očekávaný výstu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plikace pravidel pro použití předpřítomného času prostéh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é programové vybav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werpoi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á studijní literatu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R. Murphy: Essential Grammar in Use, Cambridge 2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é nebo doporučené WWW stránk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6" name="Picture 45" descr=""/>
          <p:cNvPicPr/>
          <p:nvPr/>
        </p:nvPicPr>
        <p:blipFill>
          <a:blip r:embed="rId1"/>
          <a:stretch/>
        </p:blipFill>
        <p:spPr>
          <a:xfrm>
            <a:off x="1763640" y="549360"/>
            <a:ext cx="167652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b200"/>
                </a:solidFill>
                <a:latin typeface="Comic Sans MS"/>
              </a:rPr>
              <a:t>yet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(ještě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 haven´t had my lunch ye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omic Sans MS"/>
              </a:rPr>
              <a:t>(Ještě jsem neobědval.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he hasn´t arrived ye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Ještě nepřijela.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b200"/>
                </a:solidFill>
                <a:latin typeface="Comic Sans MS"/>
              </a:rPr>
              <a:t>never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(nikdy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 have never been to US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omic Sans MS"/>
              </a:rPr>
              <a:t>(Nikdy jsem nebyl v USA.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he has never eaten Chinese foo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Nikdy nejedla čínské jídlo.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b200"/>
                </a:solidFill>
                <a:latin typeface="Comic Sans MS"/>
              </a:rPr>
              <a:t>since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(od, od té doby co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t hasn´t rained since Ma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omic Sans MS"/>
              </a:rPr>
              <a:t>(Nepršelo od května.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They haven´t visited us since last Christma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Nenavštívili nás od minulých Vánoc.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703dff"/>
                </a:solidFill>
                <a:latin typeface="Comic Sans MS"/>
              </a:rPr>
              <a:t>Otázka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ocí otázek se v tomto čase snažíme zjistit, zda již děj na který se ptáme, proběh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 pravidelných slov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omic Sans MS"/>
              </a:rPr>
              <a:t>Has/have + Po + sloveso + 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 nepravidelných slov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omic Sans MS"/>
              </a:rPr>
              <a:t>Has/have + Po + příčestí trpn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b200"/>
                </a:solidFill>
                <a:latin typeface="Comic Sans MS"/>
              </a:rPr>
              <a:t>how long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(jak dlouho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ow long have you had your car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omic Sans MS"/>
              </a:rPr>
              <a:t>(Jak dlouho máte auto?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ow long has he been at hom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Jak dlouho je doma?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b200"/>
                </a:solidFill>
                <a:latin typeface="Comic Sans MS"/>
              </a:rPr>
              <a:t>ever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(někdy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ave you ever seen a famous perso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omic Sans MS"/>
              </a:rPr>
              <a:t>(Už jsi někdy viděl slavnou osobu?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as he ever ridden a hors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Už jezdil na koni?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b200"/>
                </a:solidFill>
                <a:latin typeface="Comic Sans MS"/>
              </a:rPr>
              <a:t>yet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(už 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ave you worn your new dress yet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omic Sans MS"/>
              </a:rPr>
              <a:t>(Už jsi měla na sobě ty nové šaty?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as she started her new job yet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Už začala pracovat v nové práci?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703dff"/>
                </a:solidFill>
                <a:latin typeface="Comic Sans MS"/>
              </a:rPr>
              <a:t>Krátké odpovědi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Yes, he (she, it)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has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Yes, I (you, we, they)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have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o, he (she, it)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hasn´t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o, I (you, we, they)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haven´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30a0"/>
                </a:solidFill>
                <a:latin typeface="Comic Sans MS"/>
              </a:rPr>
              <a:t>Revi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dpověz na otázky týkajících se probraného učiv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dy používáme předpřítomný čas prostý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 nazýváme předpřítomný čas prostý v anglickém jazyc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é druhy vět používáme u kladných vět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é používáme pomocné sloveso v tomto čas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ý tvar slovesa se používá v tomto čase u nepravidelných slove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03dff"/>
                </a:solidFill>
                <a:latin typeface="Comic Sans MS"/>
              </a:rPr>
              <a:t>Předpřítomný čas prostý </a:t>
            </a:r>
            <a:br>
              <a:rPr sz="4400"/>
            </a:br>
            <a:r>
              <a:rPr b="0" lang="cs-CZ" sz="4400" spc="-1" strike="noStrike">
                <a:solidFill>
                  <a:srgbClr val="703dff"/>
                </a:solidFill>
                <a:latin typeface="Comic Sans MS"/>
              </a:rPr>
              <a:t>(Present perfect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pisuje děj, který začal v minulosti a jeho důsledky přetrvávají do přítomnos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ěkdy je poměrně težké určit zda se bude jednat o tento čas a proto si alespoň zapamatujte, že existují typy vět, které by měly být vždy v tomto ča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703dff"/>
                </a:solidFill>
                <a:latin typeface="Comic Sans MS"/>
              </a:rPr>
              <a:t>Kladná věta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Tyto věty nám říkají jak dlouho již nějaký děj trvá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u pravidelných slov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Po + has/have + sloveso + 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u nepravidelných slov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Po + has/have + příčestí trpné (3.sloupek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b200"/>
                </a:solidFill>
                <a:latin typeface="Comic Sans MS"/>
              </a:rPr>
              <a:t>for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(už, již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We have had car for 10 yea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Máme auto už 10 let.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he has been ill for 2 day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Je nemocná už 2 dny.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b200"/>
                </a:solidFill>
                <a:latin typeface="Comic Sans MS"/>
              </a:rPr>
              <a:t>since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(od, už od, od té doby co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We have known them since Christma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omic Sans MS"/>
              </a:rPr>
              <a:t>(Známe je od Vánoc.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e has been at home since 1 o´cloc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Je doma od jedné.)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ále do této skupiny kladných vět patří věty s výrazy just, alrea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b200"/>
                </a:solidFill>
                <a:latin typeface="Comic Sans MS"/>
              </a:rPr>
              <a:t>just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(právě, zrovna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- touto větou vyjadřujeme, že se něco událo právě před chvílí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Are you hungry? No, I´ve just had dinn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omic Sans MS"/>
              </a:rPr>
              <a:t>(Máš hlad? Ne, právě jsme večeřel.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Is Tom here? I´m afraid he´s just go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Je tady Tom? Bohužel, právě odešel.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b200"/>
                </a:solidFill>
                <a:latin typeface="Comic Sans MS"/>
              </a:rPr>
              <a:t>alread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(již, už, právě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outo větou vyjadřujeme, že se něco událo ještě předtím než jsme očekávali (předpokládali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What time is Mary comming? She´s already arriv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Kdy přijde Mary? Už přijela.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ohn, this is Mary. I know, we´ve already me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Johne, tohle je Mary. Já vím, my už jsme se potkali.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703dff"/>
                </a:solidFill>
                <a:latin typeface="Comic Sans MS"/>
              </a:rPr>
              <a:t>Záporná věta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porné věty v tomto čase popisují záporný minulý děj, který dosud nenastal nebo nenastal od určité doby v minulost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 pravidelných slov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omic Sans MS"/>
              </a:rPr>
              <a:t>PO + hasn´t/haven´t + sloveso + 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 nepravidelných slov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omic Sans MS"/>
              </a:rPr>
              <a:t>PO + hasn´t/haven´t + příčestí trpn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13:25:45Z</dcterms:created>
  <dc:creator>Stanislav Tichota</dc:creator>
  <dc:description/>
  <dc:language>en-US</dc:language>
  <cp:lastModifiedBy>Matyáš Škvor</cp:lastModifiedBy>
  <dcterms:modified xsi:type="dcterms:W3CDTF">2013-03-05T23:29:23Z</dcterms:modified>
  <cp:revision>16</cp:revision>
  <dc:subject/>
  <dc:title>Předpřítomný čas prostý  (Present perfect)</dc:title>
</cp:coreProperties>
</file>