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77C-66B7-4324-9D34-538E026D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BD3-A146-4275-A2CE-1DC06241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942-1245-49E7-A0D9-C429D078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327-E903-401D-87BB-98F906FB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56F-3D43-46A0-9BD2-FCC12286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A916-60DC-4308-BDBE-2759B27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4C29-C4E9-4E4A-B4C2-94ACBF64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086-F1FE-47D4-8A3F-5F3AE562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233-6E1A-451F-A75A-162AA84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D8B8-88CA-4747-80B9-2E326399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3F9-3DFD-4B66-94A8-BF35FE8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68C-2090-4F18-B74B-1261AA7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D20-6691-45AC-89CE-E5DE20B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6BFF-FD79-4049-82A7-C3D40F5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D4C-E329-436D-96A2-4E56F80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22F7-9590-4E1C-8B38-A0F90089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A862-6852-4070-BD05-CB108867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069F-CF79-4CCD-AEFE-6982213F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77D4-9A52-4969-91B0-4034172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0762-5251-48A2-BA84-DAA38A2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3E8B-A402-4FB4-83DF-EC250E8B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3531-4412-4BA2-A83B-5DE55D1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22E-D227-4AEF-AEAE-A4F23635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0360-9C7C-49C3-A671-84EF8C8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8116-126D-409E-9305-0C79E2A9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CAC2-B4B7-4558-99E5-AB67C040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DC80-801A-43D5-91A4-07B8C79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C806-5FC7-472F-BE49-0B06CAD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4B44-4A60-436C-B1BD-F02514A8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7988-7683-4733-B3A5-7C0FE71D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3BE-0878-45C0-9668-993A3A3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247-459A-4255-AEA6-9BD73DE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588-32DC-4FA2-88DF-01DA9CE3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2E0-E39F-49BA-8622-C141312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FD4-ECFD-4787-AFAA-581C673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DBB-FC1B-45F7-A745-7B06852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49E-AAFE-4EEE-80A4-5B1C0D33F9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7C97-4108-48FE-99BD-B7441847520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97E-A5DB-4D94-A95D-C9CE612C0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1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ítomný čas průběhov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. 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přítomného času průběhové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ítomný čas průběhový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resent continuou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isuje děj, který probíhá právě teď nebo v současné dob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 se také pro popis blízké plánované budouc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 + sloveso být + sloveso význam. + 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       am                   writing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íšu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ou    are                 listening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osloucháš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 + sloveso být + sloveso významové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v zápo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   aren´t         speaking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 (Oni nemluví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    isn´t          going   to Rome next we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říští týden nejede do Řím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loveso být + Po + sloveso význam. + 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re                 you    listening to 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osloucháš mě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s                    he     studying   English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Učí se anglicky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dff"/>
                </a:solidFill>
                <a:latin typeface="Comic Sans MS"/>
              </a:rPr>
              <a:t>Krátké odpově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he(she,it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you (we, they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I´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he(she,it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you (we, they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Slova, která se vyskytují v přítomném průběhovém č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now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eď, ny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right now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přávě te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t the momen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 tuto chví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se nazývá přítomný čas průběhový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ých situacích ho používám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terá koncovka se dává ke sloves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é ze slov, které se v tomto čase vyskytuj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užíváme v přítomném čase průběhovém ke tvorbě otázek či záporu pomocného sloves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3:32:50Z</dcterms:created>
  <dc:creator>Stanislav Tichota</dc:creator>
  <dc:description/>
  <dc:language>en-US</dc:language>
  <cp:lastModifiedBy>Macík</cp:lastModifiedBy>
  <dcterms:modified xsi:type="dcterms:W3CDTF">2012-08-13T18:49:58Z</dcterms:modified>
  <cp:revision>13</cp:revision>
  <dc:subject/>
  <dc:title>Přítomný čas průběhový (Present continuous)</dc:title>
</cp:coreProperties>
</file>