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2D1-258D-4624-A3B9-78CDCD83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C5F-B6E1-43A8-B9D3-86F7619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61B-B274-40F1-AE13-B5294CEF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7F8-741A-40A5-A493-2933A9CC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A0B7-7E91-40B8-9041-FF6F20EF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18F1-BDFA-4093-A27F-634BD254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1C5B-3559-4B8F-B723-D26B1905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24C-7F09-4565-ACBF-0C4A84F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AF8-FE2E-4156-B0C3-508ABC60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BE88-5DCC-46A1-8003-F50288E0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F7D3-2A16-4F77-9D49-00E78FF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C02-1BEA-4BC6-9B2A-0631F30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3851-021E-4429-BBF9-6A7D719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3364-E034-4225-9CC4-6B65EEE2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2D7D-1CC8-4572-A3D1-D44FD168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922-1733-4F1D-B95E-E5C8FB7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604-4178-4124-8E88-5801DDF9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D831-1563-4F71-8241-23056B19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DBC7-5559-43AE-B3E8-5E52D28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38C9-9C60-49F0-A7E9-F0FCB16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C165-BF55-4919-BB83-9E00DC03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C953-8848-4BB3-BAB3-9B366CE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DAC-D954-468E-841D-534B082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F7AD-178E-440A-8CE2-D9DEEB5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A00D-556B-4225-BE79-CF7A43D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35B-8B6E-4807-A884-E120ADD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6457-590E-4FE0-9F22-DE4987C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0984-014B-40F8-AD9B-B4A496C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F88C-EE8A-4460-A9CE-B4D9F2A9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7C10-83D7-4E73-B86E-19EA532F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900-9E64-4830-BE18-BC559F43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369-DA7B-4E6B-9767-FB0B918A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18B-2C98-412A-BA4C-5FD7E6BC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767-9B11-4BBA-A384-E20167D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E1A-FE18-47E6-ADAF-47E1177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D4B-A2F2-4FA1-842E-DD070C26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977-E424-4CDB-AF08-4E547E184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E320-6028-4E50-A242-BCEBECC8D167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00F-AFB8-4D83-804F-6F9B622A97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Kombinace minulých časů v souvět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kombinaci munulých časů  v souvět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16761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Kombinace minulých ča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1. Minulý čas průběhový + minulý čas prost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užijeme pokud chceme vyjádřit, že se v průběhu nějakého děje něco přihodi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o probíhajícího děje vstupuje jiný, který ho přerušu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 probíhající děj použijeme minulý čas průběhový a pro děj vstupující (přerušující) použijeme minulý čas prost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 was having a bat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when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he telephone ra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Když jsem se koupal, zazvonil telefon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hil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he was cooking lunc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the bird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flew into the kitche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Zatímco (když) vařila oběd, vletěl do kuchyně pták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y were playing football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when it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started to rai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Hráli fotbal, když začalo pršet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2. Minulý čas průběhový + minulý čas průběhov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jeme tehdy pokud chceme vyjádřit, že v určitou dobu v minulosti probíhalo několik dějů součas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 was watching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TV whil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my mum was reading a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ívala jsem se na TV, zatímco maminka si četl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Children were sitting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on their chairs while their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eacher was speaking to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ěti seděly na svých židlích, zatímco k nim mluvila jejich učitelk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3. Minulý čas prostý + minulý čas prost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jeme tehdy, pokud popisujeme děje, které za sebou následovaly v logickém sledu v minulost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train arrived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to the station and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I got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lak přijel na nádraží a já jsem vystoupil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He got up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had breakfa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went to the w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stal, nasnídal se a šel do práce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situaci použijeme kombinaci minulý čas prostý a minulý čas průběhový? Uveď pří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situaci použijeme kombinaci minulý čas průběhový a průběhový? Uveď pří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situaci použijeme kombinaci minulý čas prostý  a prostý. Uveď pří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4:43:25Z</dcterms:created>
  <dc:creator>Stanislav Tichota</dc:creator>
  <dc:description/>
  <dc:language>en-US</dc:language>
  <cp:lastModifiedBy>Macík</cp:lastModifiedBy>
  <dcterms:modified xsi:type="dcterms:W3CDTF">2012-08-13T18:47:44Z</dcterms:modified>
  <cp:revision>12</cp:revision>
  <dc:subject/>
  <dc:title>Kombinace minulých časů</dc:title>
</cp:coreProperties>
</file>