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AD41-4BB9-40DF-876D-026B4AFC0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4E2A-66BB-45CC-9063-C02EB9851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9497-5CBE-497F-98E6-3D916322A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644A-0351-4A07-95A5-70700B79A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18E2F-730D-42E5-8DDB-7D8AB0957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774D7-64C3-4678-A5D7-238E4759A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861DF-FD74-4F33-885C-2EEC0B57C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29446-DC28-4825-885E-D1D5BB07D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C363D-B918-449F-9A71-4C335F2DF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9AF98-7650-43D3-A74F-70082B03B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B41D4-B0F9-4722-B4FC-359EA0180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6BD2-1F01-4E65-802B-92A11D38A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84B4B-13B4-4088-9067-32539253C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AD53F-3BCE-4DD1-A6C7-70C687928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0CCD9-CD7B-4864-93E0-8816AC994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5E72F-56D2-4C07-9429-56962C272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B58F8-4E0F-404D-B689-1EFA89E1A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DB5C7-54A7-4E07-8932-5487D13D2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1BB1C-B8FA-4FFD-B353-2D044B868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1A408-C7B2-4183-8303-54BF9BF10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E3197-E926-4256-BFA5-28EC7AFA6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62F51-5F11-47D6-AC59-8367B5C9D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752C-DD0B-4680-848F-E16389F96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ECC9F-458A-432D-A072-1C7979741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7CF7A-26B5-4636-8FBD-ADEA8A9A1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FE865-2BCB-4B2F-95C3-CE431B9B0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9AEE8-C9FA-4959-878F-F4E276EC8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30082-1E88-484F-98AC-9A879C730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D4CA4-BE6E-4BE5-B7C4-5506B0DC0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1A492-D706-4D0D-88CA-055264304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BB70-42C7-42AD-8F69-7D98C2D14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D452-B61F-4840-99AB-549AD4B2A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119E-D35E-4B41-BC25-AA54E6D92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C195-2A7E-4667-9005-35FE4F513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01F9-E2F5-44F3-8516-2E55ECBEF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FE3C-9CAA-498F-8782-2225A5964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4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8428B-E679-4D2F-82B6-0FA1BDD5373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27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2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42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22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23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25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26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33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34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35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36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37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137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128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49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5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56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46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50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51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126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32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45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47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48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52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5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5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57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136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2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5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141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132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30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131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31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38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39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0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1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2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43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44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140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A8F10-D804-4370-A3C1-BD64C9312D0B}" type="slidenum"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reeform 50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9" name="Group 60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0" name="Freeform 28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" name="Freeform 29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" name="Freeform 30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33" name="Group 57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4" name="Freeform 31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5" name="Freeform 32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6" name="Freeform 33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7" name="Freeform 34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8" name="Freeform 35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39" name="Group 59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0" name="Freeform 37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" name="Freeform 38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2" name="Freeform 39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43" name="Group 58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4" name="Freeform 40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49" name="Freeform 45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Freeform 4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20F15-0EEB-4D6C-BAC2-25E65B114C2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1655640" y="127080"/>
          <a:ext cx="5756400" cy="1285920"/>
        </p:xfrm>
        <a:graphic>
          <a:graphicData uri="http://schemas.openxmlformats.org/drawingml/2006/table">
            <a:tbl>
              <a:tblPr/>
              <a:tblGrid>
                <a:gridCol w="5756400"/>
              </a:tblGrid>
              <a:tr h="12859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                    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Soukromá Obchodní Akademie, spol. s.r.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          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Svatováclavská 1404, 438 01 Žat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                   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tel.: 415 726 003, fax: 415 726 003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                             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e-mail: soa@soazatec.cz, www.soazatec.c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Rectangle 3"/>
          <p:cNvSpPr/>
          <p:nvPr/>
        </p:nvSpPr>
        <p:spPr>
          <a:xfrm>
            <a:off x="1655640" y="3322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5465520" y="3877920"/>
            <a:ext cx="1523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134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MetaBookCE-Roman"/>
                <a:ea typeface="Times New Roman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684440" y="2192400"/>
          <a:ext cx="5767200" cy="4378320"/>
        </p:xfrm>
        <a:graphic>
          <a:graphicData uri="http://schemas.openxmlformats.org/drawingml/2006/table">
            <a:tbl>
              <a:tblPr/>
              <a:tblGrid>
                <a:gridCol w="2884320"/>
                <a:gridCol w="2882880"/>
              </a:tblGrid>
              <a:tr h="384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DIGITÁLNÍ UČEBNÍ MATERIÁ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TÉMATICKÁ OBLAST –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ANGLICKÁ GRAMATIK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1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Název předmětu nebo činnos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	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Anglický jazy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7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Jméno, příjmení, titul auto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Marcela Tichotová, Mgr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Název prá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Přídavná jména s koncovkou –ing  a -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Stupeň a typ vzdělává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Středoškolské vzdělává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7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Pracovní skupina – tříd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2. roční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5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Očekávaný výstu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Aplikace pravidel pro použití 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přídavných jmen s koncovkou –ing  a -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7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Použité programové vybav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Powerpoi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Použitá studijní literatu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R. Murphy: Essential Grammar in Use, Cambridge 2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Použité nebo doporučené WWW stránk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6" name="Picture 45" descr=""/>
          <p:cNvPicPr/>
          <p:nvPr/>
        </p:nvPicPr>
        <p:blipFill>
          <a:blip r:embed="rId1"/>
          <a:stretch/>
        </p:blipFill>
        <p:spPr>
          <a:xfrm>
            <a:off x="1763640" y="333360"/>
            <a:ext cx="167652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03dff"/>
                </a:solidFill>
                <a:latin typeface="Comic Sans MS"/>
              </a:rPr>
              <a:t>Přídavná jména s koncovkou –ing a -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přídavná jména s koncovkou </a:t>
            </a:r>
            <a:r>
              <a:rPr b="0" lang="cs-CZ" sz="2800" spc="-1" strike="noStrike">
                <a:solidFill>
                  <a:srgbClr val="ff0000"/>
                </a:solidFill>
                <a:latin typeface="Comic Sans MS"/>
              </a:rPr>
              <a:t>–ing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používáme pokud chceme říci o věci či osobě </a:t>
            </a:r>
            <a:r>
              <a:rPr b="0" lang="cs-CZ" sz="2800" spc="-1" strike="noStrike">
                <a:solidFill>
                  <a:srgbClr val="ff0000"/>
                </a:solidFill>
                <a:latin typeface="Comic Sans MS"/>
              </a:rPr>
              <a:t>jaké je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, jak se nám </a:t>
            </a:r>
            <a:r>
              <a:rPr b="0" lang="cs-CZ" sz="2800" spc="-1" strike="noStrike">
                <a:solidFill>
                  <a:srgbClr val="ff0000"/>
                </a:solidFill>
                <a:latin typeface="Comic Sans MS"/>
              </a:rPr>
              <a:t>jeví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, jaké má </a:t>
            </a:r>
            <a:r>
              <a:rPr b="0" lang="cs-CZ" sz="2800" spc="-1" strike="noStrike">
                <a:solidFill>
                  <a:srgbClr val="ff0000"/>
                </a:solidFill>
                <a:latin typeface="Comic Sans MS"/>
              </a:rPr>
              <a:t>vlastnost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The film was boring. </a:t>
            </a:r>
            <a:r>
              <a:rPr b="0" lang="cs-CZ" sz="900" spc="-1" strike="noStrike">
                <a:solidFill>
                  <a:srgbClr val="000000"/>
                </a:solidFill>
                <a:latin typeface="Comic Sans MS"/>
              </a:rPr>
              <a:t>(Film byl nudný.)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Helen is very interesting person. </a:t>
            </a:r>
            <a:r>
              <a:rPr b="0" lang="cs-CZ" sz="900" spc="-1" strike="noStrike">
                <a:solidFill>
                  <a:srgbClr val="000000"/>
                </a:solidFill>
                <a:latin typeface="Comic Sans MS"/>
              </a:rPr>
              <a:t>(Helena je velmi zajímavá osoba.)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New York is exciting city. </a:t>
            </a:r>
            <a:r>
              <a:rPr b="0" lang="cs-CZ" sz="900" spc="-1" strike="noStrike">
                <a:solidFill>
                  <a:srgbClr val="000000"/>
                </a:solidFill>
                <a:latin typeface="Comic Sans MS"/>
              </a:rPr>
              <a:t>(New York is vzrušující město.)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přídavná jména s koncovkou </a:t>
            </a:r>
            <a:r>
              <a:rPr b="0" lang="cs-CZ" sz="2800" spc="-1" strike="noStrike">
                <a:solidFill>
                  <a:srgbClr val="ff0000"/>
                </a:solidFill>
                <a:latin typeface="Comic Sans MS"/>
              </a:rPr>
              <a:t>–ed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používáme pokud chceme mluvit o našich </a:t>
            </a:r>
            <a:r>
              <a:rPr b="0" lang="cs-CZ" sz="2800" spc="-1" strike="noStrike">
                <a:solidFill>
                  <a:srgbClr val="ff0000"/>
                </a:solidFill>
                <a:latin typeface="Comic Sans MS"/>
              </a:rPr>
              <a:t>pocitec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I felt bored all day. </a:t>
            </a:r>
            <a:r>
              <a:rPr b="0" lang="cs-CZ" sz="900" spc="-1" strike="noStrike">
                <a:solidFill>
                  <a:srgbClr val="000000"/>
                </a:solidFill>
                <a:latin typeface="Comic Sans MS"/>
              </a:rPr>
              <a:t>(Nudila jsme se celý den.)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He is interested in sport. </a:t>
            </a:r>
            <a:r>
              <a:rPr b="0" lang="cs-CZ" sz="900" spc="-1" strike="noStrike">
                <a:solidFill>
                  <a:srgbClr val="000000"/>
                </a:solidFill>
                <a:latin typeface="Comic Sans MS"/>
              </a:rPr>
              <a:t>(Zajímá se o sporty.)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Children were very excited before Christmas. </a:t>
            </a:r>
            <a:r>
              <a:rPr b="0" lang="cs-CZ" sz="900" spc="-1" strike="noStrike">
                <a:solidFill>
                  <a:srgbClr val="000000"/>
                </a:solidFill>
                <a:latin typeface="Comic Sans MS"/>
              </a:rPr>
              <a:t>(Děti byly vrzušené před Vánoci.)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7030a0"/>
                </a:solidFill>
                <a:latin typeface="Comic Sans MS"/>
              </a:rPr>
              <a:t>Revis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Odpověz na otázky týkajících se probraného učiva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 jakém používáme významu přídavné jsméno končící na koncovku –ing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 jakém významu používáme přídavné jméno končící na koncovku –ed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Utvoř některé příklady na přídavmá jména končící na koncovku –ing a –e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5T20:06:52Z</dcterms:created>
  <dc:creator>Admin</dc:creator>
  <dc:description/>
  <dc:language>en-US</dc:language>
  <cp:lastModifiedBy>Macík</cp:lastModifiedBy>
  <dcterms:modified xsi:type="dcterms:W3CDTF">2012-08-13T18:49:08Z</dcterms:modified>
  <cp:revision>10</cp:revision>
  <dc:subject/>
  <dc:title>Přídavná jména s koncovkou –ing a -e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