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5AA-38FE-4DA9-8512-41177C1E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90F-DF3B-482E-9026-F1F3A128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E8E-BA30-4DA1-BC8C-1AEC63BD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A9F-793D-4212-96BE-67EAB27A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FBB8-A655-4CD8-BDF4-488EA923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2705-D1E1-4912-9480-46CD2A19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AF6C-E63C-4E65-9504-B9E1D940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5129-C12F-4681-ACAD-1702C9E1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DBB2-6867-4AC5-9919-AFE6C951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D764-1AE8-41E1-805E-DE52D010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282E-89C3-4F0E-8D92-57F07207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2C7-F6BA-431F-9F7F-CFA31B06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9389-A80D-4A3E-95B7-88DB97EA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E66F-E709-4610-9881-E86C61DC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4808-CFCC-49CF-9350-5DF0E6AA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8094-F3AD-4BD4-9B17-CC7F0DA5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CCBF-DEAF-4E3D-B890-DAE2927F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82EFA-2A91-4270-B34D-E4A19BA0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F13C1-C2FA-4351-B328-4B85484C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F090-C29A-4EB6-B581-74B242A5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9B506-CD61-4CE4-8F60-D33D30A4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5F82A-0B1F-435F-800F-903DE37D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264-7AFA-40C8-AF51-1975A9F1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491A-EF8F-4B85-90F5-1C65E479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37784-7B67-4D57-8F27-48F3BE62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6E17-1845-44E7-BB14-AEE1E923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7B83-DD8C-4A61-921C-C529EAA9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1374-E742-4B3B-96FF-AD29025B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AA811-CA95-46F7-8378-F4BA835A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5D6E6-2B30-4EF8-997C-BAE685FA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C43-6A52-47A5-9A99-F7E2DC58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F21-ECA0-438B-9C19-A0E2E667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676-0C84-4B5E-8083-48E7BD21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047-7F67-45A5-BC6C-D88CB91E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7F4-61AD-47C1-9EF3-4CC80A03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629-A262-4423-AEF6-5000B5F1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1902-E930-4A93-8FF6-57B3ACCE26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BEC0-925A-4A70-A33F-A46984FF5AB4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791D-5869-4989-99F5-8BBCEBE5E9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21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700280"/>
          <a:ext cx="5767200" cy="43783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eurčitý č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. 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 neurčitého člen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167652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Neurčitý člen a, an</a:t>
            </a:r>
            <a:br>
              <a:rPr sz="4400"/>
            </a:b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(Indefinite article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– používáme pokud podst.jméno nebo přídavné jméno začíná na souhlásku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.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dog,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car,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house,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gir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0000"/>
                </a:solidFill>
                <a:uFillTx/>
                <a:latin typeface="Comic Sans MS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- používáme pokud podst.jméno nebo přídavné jméno začíná na samohlásku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.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apple,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ice cream,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elephant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eurčitý člen používáme pokud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voříme o věci poprv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u jednotného čís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u povolání ( She is a doctor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dyž říkáme, že někdo nebo něco něco je (Football is a game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!!!!!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zor, existují vyjímky. Někdy podstatné jméno začíná na souhlásku a píšeme před ním an a nebo naopak, začíná na samohlásku a píšeme před ním a. Jde o to jak se potom podstatné jméno čte, tudýž musíme dávat pozor na na zvukovu stránku ne na grafick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n ho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 univers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 Europe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 ho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 univers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 Europe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33ff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 nazýváme neurčitý člen v anglickém jazyc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é máme neurčité členy v anglickém jazyc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dy použijeme neurčitý člen A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menuj alespoň dvě situace, kdy se tento člen používá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menuj některou z vyjímek používání neurčitého člen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4:09:34Z</dcterms:created>
  <dc:creator>Stanislav Tichota</dc:creator>
  <dc:description/>
  <dc:language>en-US</dc:language>
  <cp:lastModifiedBy>Macík</cp:lastModifiedBy>
  <dcterms:modified xsi:type="dcterms:W3CDTF">2012-08-15T15:04:00Z</dcterms:modified>
  <cp:revision>14</cp:revision>
  <dc:subject/>
  <dc:title>Neurčitý člen a, an</dc:title>
</cp:coreProperties>
</file>